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_rels/slideMaster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</p:sldMasterIdLst>
  <p:sldIdLst>
    <p:sldId id="256" r:id="rId19"/>
    <p:sldId id="257" r:id="rId20"/>
    <p:sldId id="258" r:id="rId21"/>
    <p:sldId id="259" r:id="rId22"/>
    <p:sldId id="260" r:id="rId23"/>
    <p:sldId id="261" r:id="rId24"/>
    <p:sldId id="262" r:id="rId25"/>
    <p:sldId id="263" r:id="rId26"/>
    <p:sldId id="264" r:id="rId27"/>
    <p:sldId id="265" r:id="rId28"/>
    <p:sldId id="266" r:id="rId29"/>
    <p:sldId id="267" r:id="rId30"/>
    <p:sldId id="268" r:id="rId31"/>
    <p:sldId id="269" r:id="rId32"/>
    <p:sldId id="270" r:id="rId33"/>
    <p:sldId id="271" r:id="rId34"/>
    <p:sldId id="272" r:id="rId35"/>
    <p:sldId id="273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slide" Target="slides/slide7.xml"/><Relationship Id="rId26" Type="http://schemas.openxmlformats.org/officeDocument/2006/relationships/slide" Target="slides/slide8.xml"/><Relationship Id="rId27" Type="http://schemas.openxmlformats.org/officeDocument/2006/relationships/slide" Target="slides/slide9.xml"/><Relationship Id="rId28" Type="http://schemas.openxmlformats.org/officeDocument/2006/relationships/slide" Target="slides/slide10.xml"/><Relationship Id="rId29" Type="http://schemas.openxmlformats.org/officeDocument/2006/relationships/slide" Target="slides/slide11.xml"/><Relationship Id="rId30" Type="http://schemas.openxmlformats.org/officeDocument/2006/relationships/slide" Target="slides/slide12.xml"/><Relationship Id="rId31" Type="http://schemas.openxmlformats.org/officeDocument/2006/relationships/slide" Target="slides/slide13.xml"/><Relationship Id="rId32" Type="http://schemas.openxmlformats.org/officeDocument/2006/relationships/slide" Target="slides/slide14.xml"/><Relationship Id="rId33" Type="http://schemas.openxmlformats.org/officeDocument/2006/relationships/slide" Target="slides/slide15.xml"/><Relationship Id="rId34" Type="http://schemas.openxmlformats.org/officeDocument/2006/relationships/slide" Target="slides/slide16.xml"/><Relationship Id="rId35" Type="http://schemas.openxmlformats.org/officeDocument/2006/relationships/slide" Target="slides/slide17.xml"/><Relationship Id="rId36" Type="http://schemas.openxmlformats.org/officeDocument/2006/relationships/slide" Target="slides/slide18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1A135-9C07-46F2-BA3E-7295C98A9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489ED-7513-4271-A87D-1DB3DC77F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831077-44CD-4CFD-90CD-5563D2020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797FC8-031C-4789-B00F-A7DED1927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DB9758-DDD8-4BEA-A894-E99371A8F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11D362-A898-4659-B6F9-828EF8DBB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EE7383-914B-47E4-9AAA-FE2ECAE58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56135A-C599-45F5-9648-C1C7D5BFE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62B490-3503-40C2-92E1-EE66A4CA5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B961E8-A537-44D0-9C97-D72041C55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8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9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3CEBFB-6876-4FE1-89A7-05D28DA0B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47D6BE-ECD1-4166-8922-7C59921A2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43E22-D52A-4DEC-AF0B-F516880A6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9D3E94-3D90-43DE-98A7-521149059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8333CC-9719-48FB-BB40-98BBD34DB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F958F0-BA4C-491C-8523-409D2DBDD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42FEEF-519C-4E5F-B458-94B0BC8BD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43BA1A-7416-4F3B-B300-B950F6EF1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FFDB9F-8597-4998-A099-D48A65CA0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38AADB-1E57-4323-9FCC-12441336A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450C52-EE60-4271-9E5C-9CC90D800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E89231-EDA2-4A66-AF07-BD1086C7A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A30A55-4E37-4A67-8D80-3A69FE4C1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AD262-573D-4E51-80FA-B6DB7C35A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92ED9E-2ABE-4500-9F06-17EDFA054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F7369B-6DB7-4DC0-A18D-509D8C99A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C78F1D-3CDA-4AF7-9709-004E70D38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CE5850-20B9-477E-823E-011C7E449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FBB863-2D5A-4395-94ED-5A7D2F09D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FA403E-4410-402B-B71B-6C54EF11D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1C8968-AB2F-4F7A-AA4F-DBF99AF9C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EF4D0B-168B-4469-BB04-DEA5B9536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A9A46F-B580-4582-8CC1-EE54F6B02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E8FE72-5059-4D3D-A65B-BA7E17C72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C78B1-5080-4E24-8DF6-33BD4F54F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FE4752-BAFF-4121-9878-DF0F1A04A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AF2F5C-F367-452A-9FB3-E1F045E06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4261F4-892A-46CC-A418-1E4D02190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6C5AD1-AC1D-4841-8A83-EB880DED7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5D28FF-C9FD-4E0E-8C46-CBE7FF8D9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39F1BD-DB60-4E6A-B353-6CCBA1528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CE00EE-3E61-4F6C-8D10-90CA2233A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00E6FD-333B-4615-8A9C-D4BA21E30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A62301-22D2-4F26-A007-65890E0A3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FA478F-F1E7-49F4-AC4A-A073FF25E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1926D-4328-4A95-AD63-285634C57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864958-C728-464C-8BAE-778698F9C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AC971F-672F-438C-B0D7-FDAF9E136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B99509-28C2-4CB5-82DE-2DF7159BF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6AC287-30C4-459D-9DE5-507321ED1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63B88A-7BCB-48BA-B37E-3CEFE7F0E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525CAD2-6D84-446E-884C-573CE3AD1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61ABBDA-968F-4E60-9DE1-C7E6D6D7C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29343BE-CD13-41AD-B169-E524DF437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59E9A9C-A713-4683-9E6C-0601E0DEA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648D220-3976-46B6-A251-D12FB5497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F3DEE-F15D-49A7-8A48-1A95F9B72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5A51B49-B884-4DC5-9FAC-A9F69723B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0A53FD5-9EC4-4498-888E-3EE261E0B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FBBAF47-4D8E-40B3-8BF2-52A4FB3B0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E07B723-598E-4CD2-A97E-AA1BF58D0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8BAAB8A-3F69-4EFE-AD8D-424C34B7B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6030C3D-0B0F-443F-A1C0-63D12424D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E722376-ABAC-4C22-A745-7B94B6405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B922D04-9BDB-4316-B639-4876E529F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1882452-3BC1-4FB2-8FDE-EB4B8E83E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A0C8664-9F04-4223-8C56-BC8D7AA8A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737EB-39B2-4DB1-8585-4049E65EB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30D96A3-3A08-4548-A22F-650887458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C1AA3C3-BF65-44B3-9CB1-E8A330CEE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E1A2706-12E7-4734-9BC3-DA670B764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F242DD8-B63D-47BA-8782-1531CBC7F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A09D1FD-7959-4189-AF65-7B2BD1E4F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2B73B74-5CC7-4746-8CDB-4D3BD0845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C94353B-C70F-4CBB-9BDC-D62E4F57F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5BB7613-CBF0-4886-9C01-C85517656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A279D6D-CE26-4BA5-8DC7-9C0CAE801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ABB1557-308A-4088-BE97-36AEF1038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57A67-3395-4A3B-A11C-FF1B88FE9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EF11CA1-C401-43D5-9CEE-E276207F1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735A9B2-B0DE-43B6-91C5-A8CBD2937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90EE17F-8C1C-4618-8451-118821BCB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DB91E1D-B5D0-408A-BA08-11433044A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39ED6A0-4C5D-4C51-B922-5AF07D95F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39A2D35-C5A0-4388-BA80-5C152F693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B689F01-3A29-43B2-9726-B262CFF7E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F8EE6C8-2160-4BC5-98FE-65E67284D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391FDE0-827D-4549-B292-7CDBA9CC7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369FAA9-32E9-4668-B970-023EF7156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A2061-B947-4EBA-9129-013489F20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34E9C11-6B6E-46F0-AFA2-ED1FD41C5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378EE7D-D7F8-4BDF-A869-A4E1E4DC7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B709446-FA26-47EE-8CCA-B735C4523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8275272-9256-4461-9702-59E04DF4A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2EC72CA-0514-4A82-A56F-5384BBE1C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7E4BE41-71F4-4D35-9B53-B07B48BB1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605CE9A-4A89-48FF-8955-0356B813C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8078F3D-ABD0-4DE8-92D8-06126761C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93F6767-B0F7-4DA4-A0CF-E93F994F8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687A3EC-63CA-4836-B073-B258C087A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CA3FA-1E67-4822-A157-870214E02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F0F0833-CA3E-4C56-A8D8-BA7721F11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9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820342F-BB1E-46F6-8D7E-A4DFB8229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4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5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6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5973706-8942-4651-9B6E-CF2331697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F3239E1-F807-4AE7-8BA5-5974F4850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6D1697E-62FE-4F88-BF7E-15FB85F30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E5D7478-00C2-4385-A0F7-F85EBAD4A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4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9F5F001-AC83-4D2C-8890-F7F83B56C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B06A0BE-7660-4855-B2C4-15FEBF0FF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B048161-5734-4F3A-9ECD-42FA2E7C1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3615E98-BBE0-4B5B-B25F-6E822C9E5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C85A9-6411-4531-932D-3187A5E1A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12850-9737-4B64-8207-F43816210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6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C073E52-DF17-4D4F-9CAD-57DEB20CC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A7817BB-5C82-4608-8A41-1B5004CFC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7BB3E7B-B90D-4B6C-B1A2-7BC3A7935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8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C80C1B6-0FF7-4F42-B720-AC6C3950B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1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2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3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4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5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1FEA532-D92E-4E58-80BF-5ABDEE28D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2E5C2-A7D2-47DF-AB9F-BBB1B0469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DB25F-50DF-418F-A1F7-4734B9999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2B7A9-453F-424C-8CC8-8DE7CD677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A65FD-CC48-44B8-95B9-36174A05B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F1B199-2969-47B9-A3B0-97CDEBBCE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683559-3B12-4D26-BEF2-C5468129E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CC1770-21E5-48F0-BC5B-A4416235C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D61941-8095-4D94-BFE9-4D1420B36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9AF36E-226C-4EE0-A596-24B7864A6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CA3AE-0D9A-4018-A8F8-42269E573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049785-620F-4E16-93D9-6CBAF563F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339766-DE95-4504-AD1B-BB44198E1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7EDEC9-6DB4-40A2-B5FF-ED22609AF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FB8E1D-AC60-4D75-9D9D-4D7491B21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800E3D-55EC-4AEC-8498-A8182BB58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80AAF5-A47B-4965-9A18-DC373832C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B9A7E8-E1DC-4BD2-B5D6-9A16B0C65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A2DCC6-0AAD-445C-A979-BE2CB1BBD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ACF699-4854-448B-A19F-CF5F5E05D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F848F7-394E-48FA-A527-E3A818CDC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2AC99-0D02-4D50-963A-1F537CC6B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5CBBB7-ED1C-4FDA-9CA0-606CD4A6D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C2E177-B65D-4D7B-A3A2-623D46ECB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D73C2D-DEBD-445E-981B-1672ED7F3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51A647-6AE4-4137-AF94-5BE4DB79B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887024-C259-4751-8F8E-012E0475C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14C47C-472A-4A41-9229-48ABE5BB4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976CAB-A690-4054-B39D-0E53DE912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EDE4D7-EE9B-413F-992B-39A9D754D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3EFF51-D8B1-4A7C-AC49-ECA1252E7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82E21F-3CC7-4946-8AE7-DD8984FDA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DEBB4-CAE4-4528-8792-56F85D744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0BC946-841D-4C7C-9F80-7C4EBF5D0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B8EE05-C7B6-492E-B52A-2C9629672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1C89C1-E9AE-4809-AE50-4FF094929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DACDFC-D018-41EB-82AF-85B8FE7FA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36929B-94AD-4399-9C49-FEAC2E2B0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730145-EDAB-4933-B623-D3D228155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C2DFEC-3B14-4389-BD7A-8DEF69043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89B1D5-3B84-4119-A824-CD074AFB9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0C19A3-428A-47E7-ABD9-C2EA08B87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6BC5DA-4DD3-42BD-A6A0-084CD36E0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468FD-7E72-4C21-AD53-B265DB266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34FFD9-587F-4ADA-AD3B-37385EE6F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DF33C9-6D99-4757-8283-C916724EF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487A43-4823-47CC-9A9C-645CDA517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C7C27C-FCA1-46F0-99F0-09984FE7E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EDA129-4DFE-4058-8ED3-2CA58CC16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BC561F-FCBE-40D4-B2A2-96980E4FD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3EB904-8FE2-4ED3-A9B4-E3678D586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436E5B-3CCA-4351-8647-8740BB416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13F54E-52EA-47D7-B933-C92CCE46D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220A4C-5544-43CC-BE16-B96582AFF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257CC-361F-48A7-862D-9FC6D09B4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10175E-26C0-4C14-81B6-3BA7037E0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ABF5E7-D8A5-49DB-8BEA-52F29B96A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187050-35C6-4FA5-BE3D-4A409BD5D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C0BE66-98D1-4398-B56C-B9F0E8532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F84098-1096-4E37-96EF-F4BAA18A2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682780-2894-4CBB-A694-B424264E4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035B46-AB1D-400A-A7C9-F62E6566D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8701ED-EE25-49E7-B3D1-54BD10BDC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4FE062-4772-430C-8D67-C03F453A6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3871B8-C380-488C-9456-B8B469F9D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EFEE6-AC41-4188-81CE-F600EACCC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1CE28F-72D2-4A58-A3CB-2D08D1B4C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933D86-98A3-43D4-8884-3683E5450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3F320E-6702-4368-9454-E3436541D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DC263C-DFAC-4C4D-B8BF-43266C751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1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B02F08-5742-4362-ACEE-18D51E246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57D564-8381-403C-BA50-D66A3D029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FF0039-0B94-46DA-8853-B96EDE491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E2AFBD-57A3-43CF-BBDB-F2256C80F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B5B4C8-5A39-4A8E-9489-2768BDCA4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FF6DC2-686F-4DB9-936E-E841FCB56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43DD0-80C7-4D5D-B852-7FD574087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54CF53-A64C-467C-9E17-619AB9656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7EDB51-2027-4C9C-882C-BC2EBAF20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A7578D-B3D8-4123-8A05-025DD4138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037941-FFA8-4F7C-A322-313C4EB50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CE9D8D-06A3-40DA-BCC7-A33CADFFF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47D0BC-631E-44E9-9AAD-E1983F616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9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0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38E6CE-87DC-44B0-8300-57C9988B9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234482-4665-4F64-9F8F-EBFC68A9E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EF0CD2-A984-4AFE-AF90-6A15F534D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8E78E7-4D61-45FF-94F8-ADE194546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7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8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9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0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1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2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grpSp>
        <p:nvGrpSpPr>
          <p:cNvPr id="13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4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5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6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7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8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9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0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1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2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3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4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5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sp>
        <p:nvSpPr>
          <p:cNvPr id="26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27294-610B-48D0-ADFD-90D7623CEE9F}" type="slidenum">
              <a:rPr b="0" lang="sk-SK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0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21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22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23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24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25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26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27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28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29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30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31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32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grpSp>
        <p:nvGrpSpPr>
          <p:cNvPr id="633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634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35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36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37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38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39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40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41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42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43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44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45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sp>
        <p:nvSpPr>
          <p:cNvPr id="646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47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28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29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30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D2688-2DF7-4610-BFFB-DCC8E8E03757}" type="slidenum">
              <a:rPr b="0" lang="sk-SK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9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9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9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9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9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9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9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9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9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9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70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70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grpSp>
        <p:nvGrpSpPr>
          <p:cNvPr id="70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703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70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705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706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707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70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709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710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71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71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71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71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sp>
        <p:nvSpPr>
          <p:cNvPr id="71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16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 type="dt" idx="31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 type="ftr" idx="32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21" name="PlaceHolder 5"/>
          <p:cNvSpPr>
            <a:spLocks noGrp="1"/>
          </p:cNvSpPr>
          <p:nvPr>
            <p:ph type="sldNum" idx="33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81EE6-4F63-4D8D-BA51-C00352629E47}" type="slidenum">
              <a:rPr b="0" lang="sk-SK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75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76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76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76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76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76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76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76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76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76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76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77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grpSp>
        <p:nvGrpSpPr>
          <p:cNvPr id="77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77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77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77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77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77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77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77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77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78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78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78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78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sp>
        <p:nvSpPr>
          <p:cNvPr id="78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85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86" name="TextBox 13"/>
          <p:cNvSpPr/>
          <p:nvPr/>
        </p:nvSpPr>
        <p:spPr>
          <a:xfrm>
            <a:off x="1808280" y="64764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87" name="TextBox 14"/>
          <p:cNvSpPr/>
          <p:nvPr/>
        </p:nvSpPr>
        <p:spPr>
          <a:xfrm>
            <a:off x="8169120" y="290520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 type="dt" idx="34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 type="ftr" idx="35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92" name="PlaceHolder 5"/>
          <p:cNvSpPr>
            <a:spLocks noGrp="1"/>
          </p:cNvSpPr>
          <p:nvPr>
            <p:ph type="sldNum" idx="36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0463A-FA22-49F0-8D1E-90D520EC708E}" type="slidenum">
              <a:rPr b="0" lang="sk-SK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83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83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83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83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83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83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83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83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83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83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84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84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grpSp>
        <p:nvGrpSpPr>
          <p:cNvPr id="84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843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84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845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846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847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84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849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850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85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85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85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85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sp>
        <p:nvSpPr>
          <p:cNvPr id="85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56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 type="dt" idx="37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 type="ftr" idx="38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61" name="PlaceHolder 5"/>
          <p:cNvSpPr>
            <a:spLocks noGrp="1"/>
          </p:cNvSpPr>
          <p:nvPr>
            <p:ph type="sldNum" idx="39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1CFCE-8FD3-4CA7-8F61-D422627B5DE9}" type="slidenum">
              <a:rPr b="0" lang="sk-SK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89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90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90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90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90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90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90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90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90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90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90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91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grpSp>
        <p:nvGrpSpPr>
          <p:cNvPr id="91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91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91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91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91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91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91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91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91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92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92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92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92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sp>
        <p:nvSpPr>
          <p:cNvPr id="92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25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26" name="TextBox 10"/>
          <p:cNvSpPr/>
          <p:nvPr/>
        </p:nvSpPr>
        <p:spPr>
          <a:xfrm>
            <a:off x="1808280" y="64764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27" name="TextBox 11"/>
          <p:cNvSpPr/>
          <p:nvPr/>
        </p:nvSpPr>
        <p:spPr>
          <a:xfrm>
            <a:off x="8169120" y="290520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 type="dt" idx="40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 type="ftr" idx="41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32" name="PlaceHolder 5"/>
          <p:cNvSpPr>
            <a:spLocks noGrp="1"/>
          </p:cNvSpPr>
          <p:nvPr>
            <p:ph type="sldNum" idx="42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5E146-E4D5-4FD1-A1AA-207D1F4B94F5}" type="slidenum">
              <a:rPr b="0" lang="sk-SK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97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97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97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97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97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97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97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97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97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97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98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98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grpSp>
        <p:nvGrpSpPr>
          <p:cNvPr id="98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983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98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985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986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987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98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989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990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99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99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99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99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sp>
        <p:nvSpPr>
          <p:cNvPr id="99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96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 type="dt" idx="43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000" name="PlaceHolder 4"/>
          <p:cNvSpPr>
            <a:spLocks noGrp="1"/>
          </p:cNvSpPr>
          <p:nvPr>
            <p:ph type="ftr" idx="44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001" name="PlaceHolder 5"/>
          <p:cNvSpPr>
            <a:spLocks noGrp="1"/>
          </p:cNvSpPr>
          <p:nvPr>
            <p:ph type="sldNum" idx="45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7EBDF-979C-45A8-96D3-D85B002948C0}" type="slidenum">
              <a:rPr b="0" lang="sk-SK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03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04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04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04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04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04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04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04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04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04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04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05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grpSp>
        <p:nvGrpSpPr>
          <p:cNvPr id="105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05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05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05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05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05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05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05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05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06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06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06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06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sp>
        <p:nvSpPr>
          <p:cNvPr id="106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065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 type="dt" idx="46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 type="ftr" idx="47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 type="sldNum" idx="48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29061-A313-4FE1-984A-4463DE30DC4D}" type="slidenum">
              <a:rPr b="0" lang="sk-SK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7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108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109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110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111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112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113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114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115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116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117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118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119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grpSp>
        <p:nvGrpSpPr>
          <p:cNvPr id="1120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121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122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123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124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125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126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127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128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129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130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131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132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sp>
        <p:nvSpPr>
          <p:cNvPr id="1133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34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7" name="PlaceHolder 3"/>
          <p:cNvSpPr>
            <a:spLocks noGrp="1"/>
          </p:cNvSpPr>
          <p:nvPr>
            <p:ph type="dt" idx="49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38" name="PlaceHolder 4"/>
          <p:cNvSpPr>
            <a:spLocks noGrp="1"/>
          </p:cNvSpPr>
          <p:nvPr>
            <p:ph type="ftr" idx="50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39" name="PlaceHolder 5"/>
          <p:cNvSpPr>
            <a:spLocks noGrp="1"/>
          </p:cNvSpPr>
          <p:nvPr>
            <p:ph type="sldNum" idx="51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A76FC-B483-4724-852E-8EB1B72EBF0B}" type="slidenum">
              <a:rPr b="0" lang="sk-SK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7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7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7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8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grpSp>
        <p:nvGrpSpPr>
          <p:cNvPr id="8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8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8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8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8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8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8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8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8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9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9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9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9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sp>
        <p:nvSpPr>
          <p:cNvPr id="9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5" name="Freeform 8"/>
          <p:cNvSpPr/>
          <p:nvPr/>
        </p:nvSpPr>
        <p:spPr>
          <a:xfrm>
            <a:off x="-31680" y="4321080"/>
            <a:ext cx="1395360" cy="781200"/>
          </a:xfrm>
          <a:custGeom>
            <a:avLst/>
            <a:gdLst/>
            <a:ahLst/>
            <a:rect l="l" t="t" r="r" b="b"/>
            <a:pathLst>
              <a:path w="8042" h="10000">
                <a:moveTo>
                  <a:pt x="5799" y="10000"/>
                </a:moveTo>
                <a:cubicBezTo>
                  <a:pt x="5880" y="10000"/>
                  <a:pt x="5934" y="9940"/>
                  <a:pt x="5961" y="9880"/>
                </a:cubicBezTo>
                <a:cubicBezTo>
                  <a:pt x="5961" y="9820"/>
                  <a:pt x="5988" y="9820"/>
                  <a:pt x="5988" y="9820"/>
                </a:cubicBezTo>
                <a:lnTo>
                  <a:pt x="8042" y="5260"/>
                </a:lnTo>
                <a:cubicBezTo>
                  <a:pt x="8096" y="5140"/>
                  <a:pt x="8096" y="4901"/>
                  <a:pt x="8042" y="4721"/>
                </a:cubicBezTo>
                <a:lnTo>
                  <a:pt x="5988" y="221"/>
                </a:lnTo>
                <a:cubicBezTo>
                  <a:pt x="5988" y="160"/>
                  <a:pt x="5961" y="160"/>
                  <a:pt x="5961" y="160"/>
                </a:cubicBezTo>
                <a:cubicBezTo>
                  <a:pt x="5934" y="101"/>
                  <a:pt x="5880" y="41"/>
                  <a:pt x="5799" y="41"/>
                </a:cubicBezTo>
                <a:lnTo>
                  <a:pt x="18" y="0"/>
                </a:lnTo>
                <a:cubicBezTo>
                  <a:pt x="12" y="3330"/>
                  <a:pt x="6" y="6661"/>
                  <a:pt x="0" y="9991"/>
                </a:cubicBezTo>
                <a:lnTo>
                  <a:pt x="5799" y="10000"/>
                </a:ln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4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5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6"/>
          </p:nvPr>
        </p:nvSpPr>
        <p:spPr>
          <a:xfrm>
            <a:off x="423360" y="4529160"/>
            <a:ext cx="584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84FB9-2FF4-47C3-ACD5-4EE96393FBA8}" type="slidenum">
              <a:rPr b="0" lang="sk-SK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38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39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40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41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42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43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44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45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46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47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48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49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grpSp>
        <p:nvGrpSpPr>
          <p:cNvPr id="150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51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52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53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54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55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56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57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58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59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60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61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62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sp>
        <p:nvSpPr>
          <p:cNvPr id="163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64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7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8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9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ED0A2-4111-4577-850F-FF3C522FFE29}" type="slidenum">
              <a:rPr b="0" lang="sk-SK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207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08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09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10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11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12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13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14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15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16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17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18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grpSp>
        <p:nvGrpSpPr>
          <p:cNvPr id="219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220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21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22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23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24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25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26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27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28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29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30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31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sp>
        <p:nvSpPr>
          <p:cNvPr id="232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33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dt" idx="10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 type="ftr" idx="11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 type="sldNum" idx="12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849E0-84DD-4D44-991C-D8760B5A5B74}" type="slidenum">
              <a:rPr b="0" lang="sk-SK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5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276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77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78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79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80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81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82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83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84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85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86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87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grpSp>
        <p:nvGrpSpPr>
          <p:cNvPr id="288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289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90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91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92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93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94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95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96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97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98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99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00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sp>
        <p:nvSpPr>
          <p:cNvPr id="301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02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13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14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15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F5428-6B9D-4FA4-B1BE-46EC2264A90F}" type="slidenum">
              <a:rPr b="0" lang="sk-SK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4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345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46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47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48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49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50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51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52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53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54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55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56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grpSp>
        <p:nvGrpSpPr>
          <p:cNvPr id="357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358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59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60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61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62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63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64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65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66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67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68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69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sp>
        <p:nvSpPr>
          <p:cNvPr id="370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71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16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17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18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C4D0F-C4F4-41EC-8154-B8D3827A656E}" type="slidenum">
              <a:rPr b="0" lang="sk-SK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3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414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15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16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17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18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19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20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21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22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23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24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25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grpSp>
        <p:nvGrpSpPr>
          <p:cNvPr id="426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427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28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29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30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31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32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33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34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35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36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37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38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sp>
        <p:nvSpPr>
          <p:cNvPr id="439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40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dt" idx="19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 type="ftr" idx="20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 type="sldNum" idx="21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F59C9-010D-4300-9FA4-8931C3C74F1E}" type="slidenum">
              <a:rPr b="0" lang="sk-SK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2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483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84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85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86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87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88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89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90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91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92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93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94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grpSp>
        <p:nvGrpSpPr>
          <p:cNvPr id="495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496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97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98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99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00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01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02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03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04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05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06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07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sp>
        <p:nvSpPr>
          <p:cNvPr id="508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09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 type="dt" idx="22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 type="ftr" idx="23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 type="sldNum" idx="24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80F56-36E5-4C68-935F-95E4A980B088}" type="slidenum">
              <a:rPr b="0" lang="sk-SK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1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552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53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54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55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56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57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58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59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60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61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62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63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grpSp>
        <p:nvGrpSpPr>
          <p:cNvPr id="564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565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66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67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68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69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70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71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72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73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74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75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76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sp>
        <p:nvSpPr>
          <p:cNvPr id="577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78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 type="dt" idx="25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 type="ftr" idx="26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 type="sldNum" idx="27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0C107-03FE-4801-BC66-403A9B676988}" type="slidenum">
              <a:rPr b="0" lang="sk-SK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611280" y="1196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262626"/>
                </a:solidFill>
                <a:latin typeface="Courier New"/>
              </a:rPr>
              <a:t>Pôdny</a:t>
            </a:r>
            <a:r>
              <a:rPr b="1" lang="en-US" sz="4400" spc="-1" strike="noStrike">
                <a:solidFill>
                  <a:srgbClr val="262626"/>
                </a:solidFill>
                <a:latin typeface="Courier New"/>
                <a:ea typeface="Arial"/>
              </a:rPr>
              <a:t> edaf</a:t>
            </a:r>
            <a:r>
              <a:rPr b="1" lang="sk-SK" sz="4400" spc="-1" strike="noStrike">
                <a:solidFill>
                  <a:srgbClr val="262626"/>
                </a:solidFill>
                <a:latin typeface="Courier New"/>
                <a:ea typeface="Arial"/>
              </a:rPr>
              <a:t>ón</a:t>
            </a:r>
            <a:endParaRPr b="0" lang="en-US" sz="44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77" name="PlaceHolder 2"/>
          <p:cNvSpPr>
            <a:spLocks noGrp="1"/>
          </p:cNvSpPr>
          <p:nvPr>
            <p:ph type="subTitle"/>
          </p:nvPr>
        </p:nvSpPr>
        <p:spPr>
          <a:xfrm>
            <a:off x="1187280" y="2781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k-SK" sz="3200" spc="-1" strike="noStrike">
                <a:solidFill>
                  <a:srgbClr val="595959"/>
                </a:solidFill>
                <a:latin typeface="Courier New"/>
              </a:rPr>
              <a:t>Vplyv organizmov na pôdnu štruktúru a funkcie pôdy</a:t>
            </a:r>
            <a:r>
              <a:rPr b="0" lang="sk-SK" sz="3200" spc="-1" strike="noStrike">
                <a:solidFill>
                  <a:srgbClr val="595959"/>
                </a:solidFill>
                <a:latin typeface="Century Gothic"/>
              </a:rPr>
              <a:t> 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Text Box 4"/>
          <p:cNvSpPr/>
          <p:nvPr/>
        </p:nvSpPr>
        <p:spPr>
          <a:xfrm>
            <a:off x="574560" y="1349280"/>
            <a:ext cx="85694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  <a:ea typeface="Arial"/>
              </a:rPr>
              <a:t>Mykorízna symbióza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r>
              <a:rPr b="1" i="1" lang="sk-SK" sz="1600" spc="-1" strike="noStrike">
                <a:solidFill>
                  <a:srgbClr val="fb9318"/>
                </a:solidFill>
                <a:latin typeface="Arial"/>
                <a:ea typeface="Arial"/>
              </a:rPr>
              <a:t>je vzájomne prospešný vzťah medzi rastlinou a určitým druhom huby</a:t>
            </a:r>
            <a:r>
              <a:rPr b="0" lang="sk-SK" sz="1600" spc="-1" strike="noStrike">
                <a:solidFill>
                  <a:srgbClr val="fb9318"/>
                </a:solidFill>
                <a:latin typeface="Arial"/>
                <a:ea typeface="Arial"/>
              </a:rPr>
              <a:t>,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  <a:ea typeface="Arial"/>
              </a:rPr>
              <a:t> v ktorom rastliny poskytujú hube energeticky bohaté cukornaté látky. Huby naopak poskytujú rastlinám 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  <a:ea typeface="Arial"/>
              </a:rPr>
              <a:t>veľké množstvo úžitkov, počnúc vplyvom na štruktúru pôdy (viď nižšie), efektívnym získavaním živín a vody z pôdy, ochranu pred patogénnymi organizmami, produkciou chelátov, vitamínov, hormónov a enzýmov prospešných pre rastliny .mykorízne huby sprostredkúvajú </a:t>
            </a:r>
            <a:r>
              <a:rPr b="1" i="1" lang="sk-SK" sz="1600" spc="-1" strike="noStrike">
                <a:solidFill>
                  <a:srgbClr val="000000"/>
                </a:solidFill>
                <a:latin typeface="Arial"/>
                <a:ea typeface="Arial"/>
              </a:rPr>
              <a:t>tok informácií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  <a:ea typeface="Arial"/>
              </a:rPr>
              <a:t> medzi rastlinami a znižujú ich vzájomnú kompetíciu.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  <a:ea typeface="Arial"/>
              </a:rPr>
              <a:t>.vytvárajú hustú sieť hýf, pričom </a:t>
            </a:r>
            <a:r>
              <a:rPr b="1" i="1" lang="sk-SK" sz="1600" spc="-1" strike="noStrike">
                <a:solidFill>
                  <a:srgbClr val="000000"/>
                </a:solidFill>
                <a:latin typeface="Arial"/>
                <a:ea typeface="Arial"/>
              </a:rPr>
              <a:t>na 1 cm jemných koreňových vlásočníc pripadá 10 – 80 metrov mykoríznych hýf 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1600" spc="-1" strike="noStrike">
                <a:solidFill>
                  <a:srgbClr val="000000"/>
                </a:solidFill>
                <a:latin typeface="Arial"/>
                <a:ea typeface="Arial"/>
              </a:rPr>
              <a:t>.celková plocha mykoríznych hýf dosahuje 10 – 100 násobok plochy listov stromov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  <a:ea typeface="Arial"/>
              </a:rPr>
              <a:t>.podobne ako dokážu listy využiť slnečné svetlo pre fotosyntézu, dokážu hýfy húb efektívne prijímať voľné ióny a časť z nich následne predať rastlinám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  <a:ea typeface="Arial"/>
              </a:rPr>
              <a:t>.pre svoje malé rozmery (priemerne 0,03 mm) sa hýfy húb dostanú aj na miesta neprístupné koreňom rastlín 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  <a:ea typeface="Arial"/>
              </a:rPr>
              <a:t>.hýfy húb predstavujú mechanickú bariéru brániacu prístupu patogénov ku koreňom rastlín, spolu s baktériami produkujú alelopatické chemikálie potláčajúce rozvoj patogénov, vylučujú hormóny a antibiotiká prospešné pre rastliny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Text Box 4"/>
          <p:cNvSpPr/>
          <p:nvPr/>
        </p:nvSpPr>
        <p:spPr>
          <a:xfrm>
            <a:off x="395280" y="476280"/>
            <a:ext cx="83534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Courier New"/>
              </a:rPr>
              <a:t>.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  <a:ea typeface="Arial"/>
              </a:rPr>
              <a:t>skupiny mykoríznych húb spájajú rôzne stromy v lese a sprostredkúvajú distribúciu živín a cukornatých látok medzi stromami, cukornaté látky sa tak môžu dostať aj k zatieneným semenáčikom, ktoré by bez nich nedokázali prežiť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  <a:ea typeface="Arial"/>
              </a:rPr>
              <a:t>.rovnomerná distribúcia zdrojov prostredníctvom mykoritických húb 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  <a:ea typeface="Arial"/>
              </a:rPr>
              <a:t>znižuje kompetíciu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  <a:ea typeface="Arial"/>
              </a:rPr>
              <a:t> medzi stromami a umožňuje prežívať aj kompetične slabším jedincom, týmto spôsobom ovplyvňujú mykorízne huby 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  <a:ea typeface="Arial"/>
              </a:rPr>
              <a:t>druhovú aj štrukturálnu rozmanitosť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  <a:ea typeface="Arial"/>
              </a:rPr>
              <a:t> lesa (van der  Heijden et al 2003)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  <a:ea typeface="Arial"/>
              </a:rPr>
              <a:t>.je pravdepodobné, že </a:t>
            </a:r>
            <a:r>
              <a:rPr b="0" lang="sk-SK" sz="1600" spc="-1" strike="noStrike">
                <a:solidFill>
                  <a:srgbClr val="fb9318"/>
                </a:solidFill>
                <a:latin typeface="Arial"/>
                <a:ea typeface="Arial"/>
              </a:rPr>
              <a:t>mykoritické huby sprostredkovávajú aj </a:t>
            </a:r>
            <a:r>
              <a:rPr b="1" lang="sk-SK" sz="1600" spc="-1" strike="noStrike">
                <a:solidFill>
                  <a:srgbClr val="fb9318"/>
                </a:solidFill>
                <a:latin typeface="Arial"/>
                <a:ea typeface="Arial"/>
              </a:rPr>
              <a:t>prenos informácií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  <a:ea typeface="Arial"/>
              </a:rPr>
              <a:t> medzi stromami - spolu s cukornatými látkami prenášajú aj ďalšie biologicky aktívne látky, ktoré môžu mať pre stromy informačnú hodnotu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r>
              <a:rPr b="1" i="1" lang="sk-SK" sz="1600" spc="-1" strike="noStrike">
                <a:solidFill>
                  <a:srgbClr val="000000"/>
                </a:solidFill>
                <a:latin typeface="Arial"/>
                <a:ea typeface="Arial"/>
              </a:rPr>
              <a:t>ako hypotetický príklad možno uviesť distribúciu látok signalizujúcich napadnutie susedného stromu patogénnymi organizmami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  <a:ea typeface="Arial"/>
              </a:rPr>
              <a:t>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t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  <a:ea typeface="Arial"/>
              </a:rPr>
              <a:t>akáto informácia môže slúžiť na prípravu proti patogénnom zvýšením produkcie allelochemikálií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  <a:ea typeface="Arial"/>
              </a:rPr>
              <a:t>ďalšiu skupinu húb predstavujú 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  <a:ea typeface="Arial"/>
              </a:rPr>
              <a:t>parazitické huby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  <a:ea typeface="Arial"/>
              </a:rPr>
              <a:t>, ktoré parazitujú na koreňoch vyšších rastlín, odkiaľ sa v niektorých prípadoch šíria aj do nadzemných častí stromov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  <a:ea typeface="Arial"/>
              </a:rPr>
              <a:t>.najviac rozšírenou patogénnou hubou v smrekových lesoch, ktorá spôsobuje významné straty v lesnom hospodárení, je </a:t>
            </a:r>
            <a:r>
              <a:rPr b="1" i="1" lang="sk-SK" sz="1600" spc="-1" strike="noStrike">
                <a:solidFill>
                  <a:srgbClr val="fb9318"/>
                </a:solidFill>
                <a:latin typeface="Arial"/>
                <a:ea typeface="Arial"/>
              </a:rPr>
              <a:t>podpňovka</a:t>
            </a:r>
            <a:r>
              <a:rPr b="0" lang="sk-SK" sz="1600" spc="-1" strike="noStrike">
                <a:solidFill>
                  <a:srgbClr val="fb9318"/>
                </a:solidFill>
                <a:latin typeface="Arial"/>
                <a:ea typeface="Arial"/>
              </a:rPr>
              <a:t> 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  <a:ea typeface="Arial"/>
              </a:rPr>
              <a:t>(Armillaria mellea)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Text Box 4"/>
          <p:cNvSpPr/>
          <p:nvPr/>
        </p:nvSpPr>
        <p:spPr>
          <a:xfrm>
            <a:off x="395280" y="476280"/>
            <a:ext cx="849780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  <a:ea typeface="Arial"/>
              </a:rPr>
              <a:t>Bezstavovce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  <a:ea typeface="Arial"/>
              </a:rPr>
              <a:t>.medzi najčastejšie skupiny bezstavovcov v lesných pôdach patria </a:t>
            </a:r>
            <a:r>
              <a:rPr b="1" i="1" lang="sk-SK" sz="1600" spc="-1" strike="noStrike">
                <a:solidFill>
                  <a:srgbClr val="000000"/>
                </a:solidFill>
                <a:latin typeface="Arial"/>
                <a:ea typeface="Arial"/>
              </a:rPr>
              <a:t>háďatká, dážďovky, chrobáky, roztoče, chvostoskoky, pavúky, dvojkrídlovce, mnohonôžky a stonožky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  <a:ea typeface="Arial"/>
              </a:rPr>
              <a:t>.pôdne bezstavovce tvoria veľmi rozmanitú skupinu s rovnako rozmanitými ekologickými funkciami, bezstavovce požierajú odumreté organické látky, baktérie, jednobunkovce, hýfy húb, korene rastlín aj iné bezstavovce, čím stimulujú cyklus živín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  <a:ea typeface="Arial"/>
              </a:rPr>
              <a:t>.bezstavoce živiace sa rastlinnými zvyškami hostia v tráviacej sústave spoločenstvo baktérií, ktoré im pomáhajú tráviť organický materiál, množstvo baktérií, ktoré príjmu spolu s potravou sa po prechode ich tráviacou sústavou </a:t>
            </a:r>
            <a:r>
              <a:rPr b="0" lang="sk-SK" sz="1600" spc="-1" strike="noStrike">
                <a:solidFill>
                  <a:srgbClr val="fb9318"/>
                </a:solidFill>
                <a:latin typeface="Arial"/>
                <a:ea typeface="Arial"/>
              </a:rPr>
              <a:t>znásobí niekedy </a:t>
            </a:r>
            <a:r>
              <a:rPr b="1" i="1" lang="sk-SK" sz="1600" spc="-1" strike="noStrike">
                <a:solidFill>
                  <a:srgbClr val="fb9318"/>
                </a:solidFill>
                <a:latin typeface="Arial"/>
                <a:ea typeface="Arial"/>
              </a:rPr>
              <a:t>až niekoľko stonásobne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  <a:ea typeface="Arial"/>
              </a:rPr>
              <a:t> (Krištůfek 1995)- výlučky bezstavocov sa stávajú bohatým zdrojom živín a biologicky aktívnych látok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.b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  <a:ea typeface="Arial"/>
              </a:rPr>
              <a:t>ezstavovce prenášajú spóry mykoritických húb a iných mikroorganizmov, ktoré po prechode ich tráviacou sústavou prežívajú a dostávajú sa v balíčku živín ku koreňom rastlín, kde vytvárajú symbiózy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.k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  <a:ea typeface="Arial"/>
              </a:rPr>
              <a:t>onzumáciou hubových vlákien a rôznych organizmov sa starajú o udržiavanie biologickej rovnováhy medzi populáciami rôznych druhov organizmov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1" i="1" lang="sk-SK" sz="1600" spc="-1" strike="noStrike">
                <a:solidFill>
                  <a:srgbClr val="000000"/>
                </a:solidFill>
                <a:latin typeface="Arial"/>
                <a:ea typeface="Arial"/>
              </a:rPr>
              <a:t>ozrušovaním pôdy a vylučovaním látok sa aktívne podieľajú na zlepšovaní štruktúry pôd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Text Box 4"/>
          <p:cNvSpPr/>
          <p:nvPr/>
        </p:nvSpPr>
        <p:spPr>
          <a:xfrm>
            <a:off x="324000" y="404640"/>
            <a:ext cx="85690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  <a:ea typeface="Arial"/>
              </a:rPr>
              <a:t>Stavovce 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.m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  <a:ea typeface="Arial"/>
              </a:rPr>
              <a:t>nožstvo stavovcov je v porovnaní s inými skupinami organizmov</a:t>
            </a:r>
            <a:r>
              <a:rPr b="0" lang="sk-SK" sz="1600" spc="-1" strike="noStrike">
                <a:solidFill>
                  <a:srgbClr val="fb9318"/>
                </a:solidFill>
                <a:latin typeface="Arial"/>
                <a:ea typeface="Arial"/>
              </a:rPr>
              <a:t> malé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.j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  <a:ea typeface="Arial"/>
              </a:rPr>
              <a:t>edná sa predovšetkým o drobné zemné cicavce, ktoré rozrývajú a prevzdušňujú pôdu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- p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  <a:ea typeface="Arial"/>
              </a:rPr>
              <a:t>odobne ako bezstavovce majú v pôde aj ďalšie funkcie, vrátane rozširovania semien (spór) a stimulácie cyklu živín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.z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  <a:ea typeface="Arial"/>
              </a:rPr>
              <a:t>istilo sa, že lesné hlodavce môžu vo svojej tráviacej sústave obsahovať dusík fixujúce baktérie, ktoré vylučujú trusom (Li et al 1986)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.t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  <a:ea typeface="Arial"/>
              </a:rPr>
              <a:t>akto sa ku koreňom rastlín dostáva výživný balíček obsahujúci navyše baktérie a spóry húb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  <a:ea typeface="Arial"/>
              </a:rPr>
              <a:t>Rastliny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.k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  <a:ea typeface="Arial"/>
              </a:rPr>
              <a:t>orene rastlín </a:t>
            </a:r>
            <a:r>
              <a:rPr b="0" lang="sk-SK" sz="1600" spc="-1" strike="noStrike">
                <a:solidFill>
                  <a:srgbClr val="fb9318"/>
                </a:solidFill>
                <a:latin typeface="Arial"/>
                <a:ea typeface="Arial"/>
              </a:rPr>
              <a:t>mechanicky rozrušujú pôdu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.v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  <a:ea typeface="Arial"/>
              </a:rPr>
              <a:t>ylučujú koreňové exudáty bohaté na organické látky podporujúce mykoritické huby a spoločenstvá baktérií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, v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  <a:ea typeface="Arial"/>
              </a:rPr>
              <a:t>ylučujú tiež množstvo biologicky aktívnych látok ovplyvňujúcich procesy v pôde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.r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  <a:ea typeface="Arial"/>
              </a:rPr>
              <a:t>ôzne druhy rastlín majú špecifické vzťahy s konkrétnymi druhmi pôdnych organizmov, preto ovplyvňujú aj zloženie pôdneho edafónu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.v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  <a:ea typeface="Arial"/>
              </a:rPr>
              <a:t>plyv rastlín na pôdny edafón sa uplatňuje </a:t>
            </a:r>
            <a:r>
              <a:rPr b="0" lang="sk-SK" sz="1600" spc="-1" strike="noStrike">
                <a:solidFill>
                  <a:srgbClr val="fb9318"/>
                </a:solidFill>
                <a:latin typeface="Arial"/>
                <a:ea typeface="Arial"/>
              </a:rPr>
              <a:t>aj prostredníctvom opadu stromov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  <a:ea typeface="Arial"/>
              </a:rPr>
              <a:t>, ktorý sa u jednotlivých druhov líši obsahom rôznych látok a rýchlosťou rozkladu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, p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  <a:ea typeface="Arial"/>
              </a:rPr>
              <a:t>odľa kvality opadu môžeme dreviny zoradiť v zostupnom poradí takto: agát – jaseň – brest – javor – jelša – hrab – lipa – dub – buk – smrek – jedľa – smrekovec – duglaska – borovica (Šály 1991).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Text Box 4"/>
          <p:cNvSpPr/>
          <p:nvPr/>
        </p:nvSpPr>
        <p:spPr>
          <a:xfrm>
            <a:off x="324000" y="333360"/>
            <a:ext cx="856908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  <a:ea typeface="Arial"/>
              </a:rPr>
              <a:t>Odumreté drevo 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.o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  <a:ea typeface="Arial"/>
              </a:rPr>
              <a:t>dumreté kmene stromov a hrubé konáre sa vďaka vysokému obsahu uhlíka stávajú </a:t>
            </a:r>
            <a:r>
              <a:rPr b="1" i="1" lang="sk-SK" sz="1600" spc="-1" strike="noStrike">
                <a:solidFill>
                  <a:srgbClr val="fb9318"/>
                </a:solidFill>
                <a:latin typeface="Arial"/>
                <a:ea typeface="Arial"/>
              </a:rPr>
              <a:t>centrom biologickej aktivity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.v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  <a:ea typeface="Arial"/>
              </a:rPr>
              <a:t> čerstvo odumretom dreve sa nachádza pomerne málo živín, ich koncentrácia sa však v procese rozkladu dreva vplyvom organizmov zvyšuje až na úroveň podobajúcu sa trusu zvierat (Schieg 1998) 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i="1" lang="sk-SK" sz="1600" spc="-1" strike="noStrike">
                <a:solidFill>
                  <a:srgbClr val="000000"/>
                </a:solidFill>
                <a:latin typeface="Arial"/>
                <a:ea typeface="Arial"/>
              </a:rPr>
              <a:t> rozkladom dreva sa zvyšuje aj štrukturovanosť a pórovitosť odumretého dreva, čím sa stáva zásobárňou vody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.o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  <a:ea typeface="Arial"/>
              </a:rPr>
              <a:t>dumreté drevo sa začleňuje do vrchnej vrstvy pôdy a zvyšuje jej štrukturálnu rozmanitosť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  <a:ea typeface="Arial"/>
              </a:rPr>
              <a:t>štrukturovanosť pôdy zvyšujú aj priestory po odumretých koreňoch stromov, ktoré podporujú priaznivý vodno-vzdušný režim pôd 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  <a:ea typeface="Arial"/>
              </a:rPr>
              <a:t>.mŕtve drevo ovplyvňuje aj štruktúru nadzemnej časti lesa tým, že na rozkladajúcich sa kmeňoch sú </a:t>
            </a:r>
            <a:r>
              <a:rPr b="1" i="1" lang="sk-SK" sz="1600" spc="-1" strike="noStrike">
                <a:solidFill>
                  <a:srgbClr val="fb9318"/>
                </a:solidFill>
                <a:latin typeface="Arial"/>
                <a:ea typeface="Arial"/>
              </a:rPr>
              <a:t>vytvorené priaznivé podmienky pre rast machov a lišajníkov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  <a:ea typeface="Arial"/>
              </a:rPr>
              <a:t> a len zriedka na nich rastú vyššie rastliny .v smrekových lesoch, zaplavovaných lesoch alebo lesoch s vysokou hladinou spodnej vody sa na odumretých stromoch zmladzujú semenáčiky stromov, vďaka odumretým stromom vzniká mozaikovitá textúra podrastu lesa (Gutowski 2004)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Text Box 4"/>
          <p:cNvSpPr/>
          <p:nvPr/>
        </p:nvSpPr>
        <p:spPr>
          <a:xfrm>
            <a:off x="250920" y="260280"/>
            <a:ext cx="88930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Vplyv organizmov na štruktúru pôdy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  <a:ea typeface="Arial"/>
              </a:rPr>
              <a:t>.pôsobením organizmov dochádza </a:t>
            </a:r>
            <a:r>
              <a:rPr b="1" lang="sk-SK" sz="1600" spc="-1" strike="noStrike">
                <a:solidFill>
                  <a:srgbClr val="fb9318"/>
                </a:solidFill>
                <a:latin typeface="Arial"/>
                <a:ea typeface="Arial"/>
              </a:rPr>
              <a:t>vo vývoji pôdy</a:t>
            </a:r>
            <a:r>
              <a:rPr b="0" lang="sk-SK" sz="1600" spc="-1" strike="noStrike">
                <a:solidFill>
                  <a:srgbClr val="fb9318"/>
                </a:solidFill>
                <a:latin typeface="Arial"/>
                <a:ea typeface="Arial"/>
              </a:rPr>
              <a:t> </a:t>
            </a:r>
            <a:r>
              <a:rPr b="1" lang="sk-SK" sz="1600" spc="-1" strike="noStrike">
                <a:solidFill>
                  <a:srgbClr val="fb9318"/>
                </a:solidFill>
                <a:latin typeface="Arial"/>
                <a:ea typeface="Arial"/>
              </a:rPr>
              <a:t>ku zvyšovaniu jej štrukturálnej rozmanitosti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  <a:ea typeface="Arial"/>
              </a:rPr>
              <a:t>.na obrázku je znázornený vývoj (sukcesia) pôdy od jej počiatočného štádia (piesok) až po vyspelé štádium vývoja zrelej pôdy (Perry 1994) .aktívnym pôsobením organizmov sú malé anorganické častice premiešavané s organickou hmotou a spájané do väčších </a:t>
            </a:r>
            <a:r>
              <a:rPr b="0" lang="sk-SK" sz="1600" spc="-1" strike="noStrike">
                <a:solidFill>
                  <a:srgbClr val="fb9318"/>
                </a:solidFill>
                <a:latin typeface="Arial"/>
                <a:ea typeface="Arial"/>
              </a:rPr>
              <a:t>makroagregátov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  <a:ea typeface="Arial"/>
              </a:rPr>
              <a:t> (viď v strede obrázku č.2), samotné agregáty sú aktívnym centrom biologickej aktivity, ktorej sa zúčastňujú najmä baktérie, jednobunkové organizmy, mikroskopické bezstavovce a sú popretkávané hýfami húb a koreňovými vlásočnicami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  <a:ea typeface="Arial"/>
              </a:rPr>
              <a:t>.odohráva sa v nich intenzívny metabolizmus látok dôležitý pre zásobovanie rastlín živinami a súčasne sú zásobárňou vody prístupnej pre rastliny 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sk-SK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sk-SK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sk-SK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sk-SK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sk-SK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sk-SK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1197" name="Picture 5" descr="poda polozivot"/>
          <p:cNvPicPr/>
          <p:nvPr/>
        </p:nvPicPr>
        <p:blipFill>
          <a:blip r:embed="rId1"/>
          <a:stretch/>
        </p:blipFill>
        <p:spPr>
          <a:xfrm>
            <a:off x="324000" y="3949560"/>
            <a:ext cx="2952720" cy="2381400"/>
          </a:xfrm>
          <a:prstGeom prst="rect">
            <a:avLst/>
          </a:prstGeom>
          <a:ln w="0">
            <a:noFill/>
          </a:ln>
        </p:spPr>
      </p:pic>
      <p:sp>
        <p:nvSpPr>
          <p:cNvPr id="1198" name="AutoShape 6"/>
          <p:cNvSpPr/>
          <p:nvPr/>
        </p:nvSpPr>
        <p:spPr>
          <a:xfrm>
            <a:off x="3780000" y="4797360"/>
            <a:ext cx="936360" cy="432000"/>
          </a:xfrm>
          <a:prstGeom prst="rightArrow">
            <a:avLst>
              <a:gd name="adj1" fmla="val 50000"/>
              <a:gd name="adj2" fmla="val 54188"/>
            </a:avLst>
          </a:prstGeom>
          <a:solidFill>
            <a:srgbClr val="fb931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1199" name="Picture 7" descr="poda zivot"/>
          <p:cNvPicPr/>
          <p:nvPr/>
        </p:nvPicPr>
        <p:blipFill>
          <a:blip r:embed="rId2"/>
          <a:stretch/>
        </p:blipFill>
        <p:spPr>
          <a:xfrm>
            <a:off x="5435640" y="3917880"/>
            <a:ext cx="2881440" cy="2320920"/>
          </a:xfrm>
          <a:prstGeom prst="rect">
            <a:avLst/>
          </a:prstGeom>
          <a:ln w="0">
            <a:noFill/>
          </a:ln>
        </p:spPr>
      </p:pic>
      <p:sp>
        <p:nvSpPr>
          <p:cNvPr id="1200" name="Text Box 8"/>
          <p:cNvSpPr/>
          <p:nvPr/>
        </p:nvSpPr>
        <p:spPr>
          <a:xfrm>
            <a:off x="3924360" y="5661000"/>
            <a:ext cx="718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Courier New"/>
              </a:rPr>
              <a:t>čas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01" name="Text Box 9"/>
          <p:cNvSpPr/>
          <p:nvPr/>
        </p:nvSpPr>
        <p:spPr>
          <a:xfrm>
            <a:off x="971640" y="6453360"/>
            <a:ext cx="158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Courier New"/>
              </a:rPr>
              <a:t>Obr. Č. 1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02" name="Text Box 10"/>
          <p:cNvSpPr/>
          <p:nvPr/>
        </p:nvSpPr>
        <p:spPr>
          <a:xfrm>
            <a:off x="5724360" y="6381720"/>
            <a:ext cx="158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Courier New"/>
              </a:rPr>
              <a:t>Obr. Č. 2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Text Box 4"/>
          <p:cNvSpPr/>
          <p:nvPr/>
        </p:nvSpPr>
        <p:spPr>
          <a:xfrm>
            <a:off x="179280" y="189000"/>
            <a:ext cx="871380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Courier New"/>
              </a:rPr>
              <a:t>.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  <a:ea typeface="Arial"/>
              </a:rPr>
              <a:t>stabilita pôdnej štruktúry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k-SK" sz="1600" spc="-1" strike="noStrike">
                <a:solidFill>
                  <a:srgbClr val="fb9318"/>
                </a:solidFill>
                <a:latin typeface="Arial"/>
                <a:ea typeface="Arial"/>
              </a:rPr>
              <a:t>závisí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  <a:ea typeface="Arial"/>
              </a:rPr>
              <a:t> od stability agregátov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  <a:ea typeface="Arial"/>
              </a:rPr>
              <a:t>.zmeny vlhkosti pôsobia na agregáty deštruktívne, preto musia existovať sily, ktoré udržiavajú agregáty stabilné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  <a:ea typeface="Arial"/>
              </a:rPr>
              <a:t>.spájanie elementárnych častíc na najnižšom hierarchickom stupni agregácie do mikroagregátov je spôsobované elektrostatickým napätím týchto častíc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  <a:ea typeface="Arial"/>
              </a:rPr>
              <a:t>.organické látky zohrávajú vďaka svojim fyzikálnym vlastnostiam dôležitú úlohu už v tomto stupni agregácie, stabilita pôdnych agregátov je preto závislá od množstva organickej hmoty v pôde (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Zhang et al 2005)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  <a:ea typeface="Arial"/>
              </a:rPr>
              <a:t>stabilita makroagregátov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  <a:ea typeface="Arial"/>
              </a:rPr>
              <a:t> je </a:t>
            </a:r>
            <a:r>
              <a:rPr b="0" lang="sk-SK" sz="1600" spc="-1" strike="noStrike">
                <a:solidFill>
                  <a:srgbClr val="fb9318"/>
                </a:solidFill>
                <a:latin typeface="Arial"/>
                <a:ea typeface="Arial"/>
              </a:rPr>
              <a:t>úzko spojená so spoločenstvom rastlín a mykoríz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  <a:ea typeface="Arial"/>
              </a:rPr>
              <a:t>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t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  <a:ea typeface="Arial"/>
              </a:rPr>
              <a:t>ie produkujú rozmanité látky pôsobiace ako lepidlo a mechanicky spájajú menšie agregáty do väčších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.m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  <a:ea typeface="Arial"/>
              </a:rPr>
              <a:t>ykorízne huby napríklad produkujú veľmi stabilnú proteínovú látku – 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  <a:ea typeface="Arial"/>
              </a:rPr>
              <a:t>glomalín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  <a:ea typeface="Arial"/>
              </a:rPr>
              <a:t>, ktorá stabilizuje pôdne agregáty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.n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  <a:ea typeface="Arial"/>
              </a:rPr>
              <a:t>avyše bolo pozorované, že tvorba glomalínu bola výrazne zvýšená v prostredí s menšími čiastočkami, kde je tvorba väčších agregátov žiadúca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.n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  <a:ea typeface="Arial"/>
              </a:rPr>
              <a:t>a tvorbe makroagregátov sa významne podieľajú aj veľké bezstavovce 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v </a:t>
            </a:r>
            <a:r>
              <a:rPr b="1" i="1" lang="sk-SK" sz="1600" spc="-1" strike="noStrike">
                <a:solidFill>
                  <a:srgbClr val="000000"/>
                </a:solidFill>
                <a:latin typeface="Arial"/>
                <a:ea typeface="Arial"/>
              </a:rPr>
              <a:t>prostredí bez rastlín sa stávajú makroagregáty nestabilnými a rozpadávajú sa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  <a:ea typeface="Arial"/>
              </a:rPr>
              <a:t>akropóry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  <a:ea typeface="Arial"/>
              </a:rPr>
              <a:t> vypĺňajú priestory medzi makroagregátmi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, o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  <a:ea typeface="Arial"/>
              </a:rPr>
              <a:t>krem toho môžu makropóry vznikať aj činnosťou pôdnych živočíchov, ktoré vytvárajú obyčajne vertikálne póry nazývané </a:t>
            </a:r>
            <a:r>
              <a:rPr b="1" lang="sk-SK" sz="1600" spc="-1" strike="noStrike">
                <a:solidFill>
                  <a:srgbClr val="fb9318"/>
                </a:solidFill>
                <a:latin typeface="Arial"/>
                <a:ea typeface="Arial"/>
              </a:rPr>
              <a:t>pedohydatódy</a:t>
            </a:r>
            <a:r>
              <a:rPr b="0" lang="en-US" sz="1600" spc="-1" strike="noStrike">
                <a:solidFill>
                  <a:srgbClr val="fb9318"/>
                </a:solidFill>
                <a:latin typeface="Arial"/>
                <a:ea typeface="Arial"/>
              </a:rPr>
              <a:t> -</a:t>
            </a:r>
            <a:r>
              <a:rPr b="0" lang="sk-SK" sz="1600" spc="-1" strike="noStrike">
                <a:solidFill>
                  <a:srgbClr val="fb9318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fb9318"/>
                </a:solidFill>
                <a:latin typeface="Arial"/>
                <a:ea typeface="Arial"/>
              </a:rPr>
              <a:t>n</a:t>
            </a:r>
            <a:r>
              <a:rPr b="0" lang="sk-SK" sz="1600" spc="-1" strike="noStrike">
                <a:solidFill>
                  <a:srgbClr val="fb9318"/>
                </a:solidFill>
                <a:latin typeface="Arial"/>
                <a:ea typeface="Arial"/>
              </a:rPr>
              <a:t>a tvorbe pedohydatód sa zúčastňujú najmä </a:t>
            </a:r>
            <a:r>
              <a:rPr b="1" i="1" lang="sk-SK" sz="1600" spc="-1" strike="noStrike">
                <a:solidFill>
                  <a:srgbClr val="fb9318"/>
                </a:solidFill>
                <a:latin typeface="Arial"/>
                <a:ea typeface="Arial"/>
              </a:rPr>
              <a:t>dážďovky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Text Box 6"/>
          <p:cNvSpPr/>
          <p:nvPr/>
        </p:nvSpPr>
        <p:spPr>
          <a:xfrm>
            <a:off x="250920" y="260280"/>
            <a:ext cx="856908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.v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  <a:ea typeface="Arial"/>
              </a:rPr>
              <a:t>ýznam pôdnych organizmov pre formovanie štruktúry pôdy a jej vodozádržnú schopnosť je značn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, e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  <a:ea typeface="Arial"/>
              </a:rPr>
              <a:t>xperimentálne merania dokázali, že </a:t>
            </a:r>
            <a:r>
              <a:rPr b="1" i="1" lang="sk-SK" sz="1600" spc="-1" strike="noStrike">
                <a:solidFill>
                  <a:srgbClr val="fb9318"/>
                </a:solidFill>
                <a:latin typeface="Arial"/>
                <a:ea typeface="Arial"/>
              </a:rPr>
              <a:t>pedohydatódou vybudovanou jednou dážďovkou s priemerom 5,5 mm môže denne pretiecť 1,55 až 2,33 m3 vody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  <a:ea typeface="Arial"/>
              </a:rPr>
              <a:t> (Vaškú 1994)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.k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  <a:ea typeface="Arial"/>
              </a:rPr>
              <a:t>eď uvážime obrovské množstvo dážďoviek na každom hektári zdravého lesa je zrejmé, že ich podiel na vodozádržnej schopnosti pôd a eliminácii povrchového odtoku je obrovský 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1205" name="Picture 7" descr="1994_396_06"/>
          <p:cNvPicPr/>
          <p:nvPr/>
        </p:nvPicPr>
        <p:blipFill>
          <a:blip r:embed="rId1"/>
          <a:stretch/>
        </p:blipFill>
        <p:spPr>
          <a:xfrm>
            <a:off x="250920" y="2492280"/>
            <a:ext cx="2047680" cy="2089080"/>
          </a:xfrm>
          <a:prstGeom prst="rect">
            <a:avLst/>
          </a:prstGeom>
          <a:ln w="0">
            <a:noFill/>
          </a:ln>
        </p:spPr>
      </p:pic>
      <p:pic>
        <p:nvPicPr>
          <p:cNvPr id="1206" name="Picture 8" descr="1994_396_03"/>
          <p:cNvPicPr/>
          <p:nvPr/>
        </p:nvPicPr>
        <p:blipFill>
          <a:blip r:embed="rId2"/>
          <a:stretch/>
        </p:blipFill>
        <p:spPr>
          <a:xfrm>
            <a:off x="2411280" y="2475000"/>
            <a:ext cx="6264360" cy="3376440"/>
          </a:xfrm>
          <a:prstGeom prst="rect">
            <a:avLst/>
          </a:prstGeom>
          <a:ln w="0">
            <a:noFill/>
          </a:ln>
        </p:spPr>
      </p:pic>
      <p:sp>
        <p:nvSpPr>
          <p:cNvPr id="1207" name="Text Box 9"/>
          <p:cNvSpPr/>
          <p:nvPr/>
        </p:nvSpPr>
        <p:spPr>
          <a:xfrm>
            <a:off x="395280" y="4869000"/>
            <a:ext cx="11523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08" name="Text Box 11"/>
          <p:cNvSpPr/>
          <p:nvPr/>
        </p:nvSpPr>
        <p:spPr>
          <a:xfrm>
            <a:off x="324000" y="4797360"/>
            <a:ext cx="180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1600" spc="-1" strike="noStrike">
                <a:solidFill>
                  <a:srgbClr val="000000"/>
                </a:solidFill>
                <a:latin typeface="Courier New"/>
              </a:rPr>
              <a:t>(Vašků 1994)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Text Box 4"/>
          <p:cNvSpPr/>
          <p:nvPr/>
        </p:nvSpPr>
        <p:spPr>
          <a:xfrm>
            <a:off x="539640" y="476280"/>
            <a:ext cx="80647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  <a:ea typeface="Arial"/>
              </a:rPr>
              <a:t>štruktúra pôdy bohatej na živé organizmy je nepretržite formovaná aj počas obdobia, kedy do pôdy vsakuje voda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  <a:ea typeface="Arial"/>
              </a:rPr>
              <a:t>.teoretický model ukazuje, že </a:t>
            </a:r>
            <a:r>
              <a:rPr b="1" i="1" lang="sk-SK" sz="1600" spc="-1" strike="noStrike">
                <a:solidFill>
                  <a:srgbClr val="fb9318"/>
                </a:solidFill>
                <a:latin typeface="Arial"/>
                <a:ea typeface="Arial"/>
              </a:rPr>
              <a:t>intenzita infiltrácie sa počas trvania zrážok postupne znižuje,  v skutočnosti sa však po určitom čase začína infiltračná schopnosť zdravej pôdy opäť zvyšovať  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  <a:ea typeface="Arial"/>
              </a:rPr>
              <a:t>.vysvetlenie zvýšenej intenzity vsakovania zrážok v „živej“ pôde spočíva v tom, že </a:t>
            </a:r>
            <a:r>
              <a:rPr b="1" i="1" lang="sk-SK" sz="1600" spc="-1" strike="noStrike">
                <a:solidFill>
                  <a:srgbClr val="000000"/>
                </a:solidFill>
                <a:latin typeface="Arial"/>
                <a:ea typeface="Arial"/>
              </a:rPr>
              <a:t>organizmy sa počas vsakovania vody pohybujú a aktívne vytvárajú nové pôdne póry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  <a:ea typeface="Arial"/>
              </a:rPr>
              <a:t>, napríklad dážďovky počas dažďa vychádzajú na povrch pôdy a je tiež možné, že organizmy reagujú zvýšenou aktivitou na znížený obsah vzduchu v pôdnych póroch, ktoré sa pri zrážkach postupne zapĺňajú vodou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r>
              <a:rPr b="0" lang="sk-SK" sz="1600" spc="-1" strike="noStrike">
                <a:solidFill>
                  <a:srgbClr val="fb9318"/>
                </a:solidFill>
                <a:latin typeface="Arial"/>
                <a:ea typeface="Arial"/>
              </a:rPr>
              <a:t>pohybom organizmov vznikajú nové póry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  <a:ea typeface="Arial"/>
              </a:rPr>
              <a:t>, ktoré umožňujú drenážovanie pôdy, v prípade neživej pôdy by sa existujúce póry postupne zaplnili vodou a makropóry by postupne zanikali pôsobením tečúcej vody,  v živej pôde však neustále vznikajú nové póry, ktorých tvorba je pravdepodobne zrýchlená pri zrážkovej činnosti 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  <a:ea typeface="Arial"/>
              </a:rPr>
              <a:t>.póry vzniknuté činnosťou organizmov sú pritom v porovnaní s pórmi vzniknutými čisto fyzikálnymi procesmi stabilnejši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; j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  <a:ea typeface="Arial"/>
              </a:rPr>
              <a:t>e to spôsobené produkciou lepiacich látok (dážďovky produkujú sliz, huby glomalín, rastliny cukornaté látky,..) a mechanickým spevňovaním pôdnej štruktúry koreňmi rastlín a hýfami húb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Text Box 10"/>
          <p:cNvSpPr/>
          <p:nvPr/>
        </p:nvSpPr>
        <p:spPr>
          <a:xfrm>
            <a:off x="611280" y="692280"/>
            <a:ext cx="7777080" cy="77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b9318"/>
                </a:solidFill>
                <a:latin typeface="Arial"/>
                <a:ea typeface="Arial"/>
              </a:rPr>
              <a:t>Pôdny edaf</a:t>
            </a:r>
            <a:r>
              <a:rPr b="1" lang="sk-SK" sz="1800" spc="-1" strike="noStrike">
                <a:solidFill>
                  <a:srgbClr val="fb9318"/>
                </a:solidFill>
                <a:latin typeface="Arial"/>
                <a:ea typeface="Arial"/>
              </a:rPr>
              <a:t>ón –</a:t>
            </a:r>
            <a:r>
              <a:rPr b="1" lang="en-US" sz="1800" spc="-1" strike="noStrike">
                <a:solidFill>
                  <a:srgbClr val="fb9318"/>
                </a:solidFill>
                <a:latin typeface="Arial"/>
                <a:ea typeface="Arial"/>
              </a:rPr>
              <a:t> s</a:t>
            </a:r>
            <a:r>
              <a:rPr b="1" lang="sk-SK" sz="1800" spc="-1" strike="noStrike">
                <a:solidFill>
                  <a:srgbClr val="fb9318"/>
                </a:solidFill>
                <a:latin typeface="Arial"/>
                <a:ea typeface="Arial"/>
              </a:rPr>
              <a:t>úbor všetkých organizmov žijúcich v p</a:t>
            </a:r>
            <a:r>
              <a:rPr b="1" lang="en-US" sz="1800" spc="-1" strike="noStrike">
                <a:solidFill>
                  <a:srgbClr val="fb9318"/>
                </a:solidFill>
                <a:latin typeface="Arial"/>
                <a:ea typeface="Arial"/>
              </a:rPr>
              <a:t>ô</a:t>
            </a:r>
            <a:r>
              <a:rPr b="1" lang="sk-SK" sz="1800" spc="-1" strike="noStrike">
                <a:solidFill>
                  <a:srgbClr val="fb9318"/>
                </a:solidFill>
                <a:latin typeface="Arial"/>
                <a:ea typeface="Arial"/>
              </a:rPr>
              <a:t>de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  <a:ea typeface="Arial"/>
              </a:rPr>
              <a:t>.množstvo organizmov v zdravej pôde je obrovské, ako príklad možno uviesť, že na každom hektári lesa sa nachádza rádovo  </a:t>
            </a:r>
            <a:r>
              <a:rPr b="0" lang="sk-SK" sz="1600" spc="-1" strike="noStrike">
                <a:solidFill>
                  <a:srgbClr val="fb9318"/>
                </a:solidFill>
                <a:latin typeface="Arial"/>
                <a:ea typeface="Arial"/>
              </a:rPr>
              <a:t>10 na dvadsiatu prvú baktérií, 10 na sedemnáastu jednobunkových organizmov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  <a:ea typeface="Arial"/>
              </a:rPr>
              <a:t>, 10 na deviatu chvostoskokov, niekoľko miliónov mnohonôžok, pavúkov a stonôžok a len niekoľko sto stavovcov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r>
              <a:rPr b="1" i="1" lang="sk-SK" sz="1600" spc="-1" strike="noStrike">
                <a:solidFill>
                  <a:srgbClr val="fb9318"/>
                </a:solidFill>
                <a:latin typeface="Arial"/>
                <a:ea typeface="Arial"/>
              </a:rPr>
              <a:t>celková hmotnosť organizmov žijúcich v pôde na 1 hektári presahuje desiatky ton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  <a:ea typeface="Arial"/>
              </a:rPr>
              <a:t>.pôdny edefón je plne závislý od prísunu energie vo forme uhlíkatých látok pochádzajúcich primárne od rastlín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  <a:ea typeface="Arial"/>
              </a:rPr>
              <a:t>.tieto látky sa do pôdy dostávajú dvoma základnými cestami :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  <a:ea typeface="Arial"/>
              </a:rPr>
              <a:t>významnú časť energeticky bohatých uhlíkatých látok, ktoré stromy vyprodukujú v procese fotosyntézy (asi ¼)  vylučujú vo forme 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  <a:ea typeface="Arial"/>
              </a:rPr>
              <a:t>koreňových exudátov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  <a:ea typeface="Arial"/>
              </a:rPr>
              <a:t> (výlučkov) do pôdy - v pôde sa tieto cukornaté látky stávajú základom potravného reťazca pre huby a baktérie, na ktoré sú viazané ďalšie skupiny organizmov od jednobunkovcov až po pôdne stavovce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  <a:ea typeface="Arial"/>
              </a:rPr>
              <a:t>druhým významným zdrojom energie v pôdnom ekosystéme sú 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  <a:ea typeface="Arial"/>
              </a:rPr>
              <a:t>odumreté organické látky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Text Box 5"/>
          <p:cNvSpPr/>
          <p:nvPr/>
        </p:nvSpPr>
        <p:spPr>
          <a:xfrm>
            <a:off x="611280" y="549360"/>
            <a:ext cx="77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  <a:ea typeface="Arial"/>
              </a:rPr>
              <a:t>. bez týchto dvoch zdrojov energie by pôdny edafón nemohol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  <a:ea typeface="Arial"/>
              </a:rPr>
              <a:t>existovať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graphicFrame>
        <p:nvGraphicFramePr>
          <p:cNvPr id="1180" name=""/>
          <p:cNvGraphicFramePr/>
          <p:nvPr/>
        </p:nvGraphicFramePr>
        <p:xfrm>
          <a:off x="1403280" y="1916280"/>
          <a:ext cx="5595840" cy="4362120"/>
        </p:xfrm>
        <a:graphic>
          <a:graphicData uri="http://schemas.openxmlformats.org/drawingml/2006/table">
            <a:tbl>
              <a:tblPr/>
              <a:tblGrid>
                <a:gridCol w="1656000"/>
                <a:gridCol w="2520720"/>
                <a:gridCol w="1419120"/>
              </a:tblGrid>
              <a:tr h="3070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skupi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urier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oče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urier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hmotnosť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urier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Courier Ne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Courier Ne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kg/hektá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urier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baktéri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urier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600 * 10</a:t>
                      </a:r>
                      <a:r>
                        <a:rPr b="0" lang="sk-SK" sz="1400" spc="-1" strike="noStrike" baseline="30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6</a:t>
                      </a: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v gra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urier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0 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urier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huby, ples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urier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0,4 * 10</a:t>
                      </a:r>
                      <a:r>
                        <a:rPr b="0" lang="sk-SK" sz="1400" spc="-1" strike="noStrike" baseline="30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6</a:t>
                      </a: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v gra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urier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0 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urier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rias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urier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0,1 * 10</a:t>
                      </a:r>
                      <a:r>
                        <a:rPr b="0" lang="sk-SK" sz="1400" spc="-1" strike="noStrike" baseline="30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6</a:t>
                      </a: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v gra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urier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urier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rvok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urier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500*10</a:t>
                      </a:r>
                      <a:r>
                        <a:rPr b="0" lang="sk-SK" sz="1400" spc="-1" strike="noStrike" baseline="30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6</a:t>
                      </a: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v litr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urier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3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urier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hlístov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urier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50 000 v litr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urier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urier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hvostoskok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urier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00 v litr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urier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urier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rozstoč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urier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50 v litr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urier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urier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rupi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urier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0 v litr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urier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urier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stonožk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urier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4 v litr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urier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urier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hmyz, pavúk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urier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6 v litr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urier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urier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äkkýš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urier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5 v litr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urier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urier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dážďovk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urier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 v litr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urier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4 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urier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81" name="Text Box 56"/>
          <p:cNvSpPr/>
          <p:nvPr/>
        </p:nvSpPr>
        <p:spPr>
          <a:xfrm>
            <a:off x="826920" y="1197000"/>
            <a:ext cx="597708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1400" spc="-1" strike="noStrike">
                <a:solidFill>
                  <a:srgbClr val="000000"/>
                </a:solidFill>
                <a:latin typeface="Arial"/>
                <a:ea typeface="Arial"/>
              </a:rPr>
              <a:t>Príklad početnosti a celkovej hmotnosti rôznych zástupcov 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1400" spc="-1" strike="noStrike">
                <a:solidFill>
                  <a:srgbClr val="000000"/>
                </a:solidFill>
                <a:latin typeface="Arial"/>
                <a:ea typeface="Arial"/>
              </a:rPr>
              <a:t>pôdneho edafónu podľa Šályho (Šály 1991)</a:t>
            </a:r>
            <a:r>
              <a:rPr b="0" lang="sk-SK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Rectangle 282"/>
          <p:cNvSpPr/>
          <p:nvPr/>
        </p:nvSpPr>
        <p:spPr>
          <a:xfrm>
            <a:off x="755640" y="620640"/>
            <a:ext cx="77756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  <a:ea typeface="Arial"/>
              </a:rPr>
              <a:t>pôdne organizmy sa rozmanitými spôsobmi zúčastňujú procesov v pôde, pričom ich pôsobenie možno rozdeliť do týchto základných skupín: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  <a:ea typeface="Arial"/>
              </a:rPr>
              <a:t>.dekompozícia odumretých organických látok a cyklus 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  <a:ea typeface="Arial"/>
              </a:rPr>
              <a:t>živín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  <a:ea typeface="Arial"/>
              </a:rPr>
              <a:t>.premena anorganickej formy dusíka na organickú 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  <a:ea typeface="Arial"/>
              </a:rPr>
              <a:t>a premenu organického dusíka na plynný dusík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  <a:ea typeface="Arial"/>
              </a:rPr>
              <a:t>.priame vzťahy so živými rastlinami od mutualizmu po 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  <a:ea typeface="Arial"/>
              </a:rPr>
              <a:t>patogénnosť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  <a:ea typeface="Arial"/>
              </a:rPr>
              <a:t>.produkcia enzýmov, vitamínov, hormónov, chelátov 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  <a:ea typeface="Arial"/>
              </a:rPr>
              <a:t>a alelochemikálií, ktoré regulujú populácie druhov   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  <a:ea typeface="Arial"/>
              </a:rPr>
              <a:t>a procesy v ekosystéme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  <a:ea typeface="Arial"/>
              </a:rPr>
              <a:t>.tvorba pôdnej štruktúry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  <a:ea typeface="Arial"/>
              </a:rPr>
              <a:t>.znižovanie kompetície medzi rastlinami a vplyv na    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  <a:ea typeface="Arial"/>
              </a:rPr>
              <a:t>štruktúru lesa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  <a:ea typeface="Arial"/>
              </a:rPr>
              <a:t>.prenos informácií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Text Box 4"/>
          <p:cNvSpPr/>
          <p:nvPr/>
        </p:nvSpPr>
        <p:spPr>
          <a:xfrm>
            <a:off x="539640" y="549360"/>
            <a:ext cx="79200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  <a:ea typeface="Arial"/>
              </a:rPr>
              <a:t>jednotlivé skupiny pôdnych organizmov podrobnejšie vo vzťahu k ich funkcii v lesnom ekosystéme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84" name="Text Box 6"/>
          <p:cNvSpPr/>
          <p:nvPr/>
        </p:nvSpPr>
        <p:spPr>
          <a:xfrm>
            <a:off x="592200" y="1384200"/>
            <a:ext cx="72198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85" name="Text Box 9"/>
          <p:cNvSpPr/>
          <p:nvPr/>
        </p:nvSpPr>
        <p:spPr>
          <a:xfrm>
            <a:off x="611280" y="1484280"/>
            <a:ext cx="806436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  <a:ea typeface="Arial"/>
              </a:rPr>
              <a:t>Baktérie 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  <a:ea typeface="Arial"/>
              </a:rPr>
              <a:t>sú druhovo aj funkčne veľmi rozmanitou skupinou náročnou na štúdium v prirodzenom prostredí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, p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  <a:ea typeface="Arial"/>
              </a:rPr>
              <a:t>reto sa dá predpokladať, že mnohé z funkcií baktérií v lesných pôdach sú neznáme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.d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  <a:ea typeface="Arial"/>
              </a:rPr>
              <a:t>obre je preštudovaná nitrifikačná činnosť baktérií, ktoré viažu vzdušný dusík do organických foriem prístupných pre rastlin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;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i="1" lang="sk-SK" sz="1600" spc="-1" strike="noStrike">
                <a:solidFill>
                  <a:srgbClr val="000000"/>
                </a:solidFill>
                <a:latin typeface="Arial"/>
                <a:ea typeface="Arial"/>
              </a:rPr>
              <a:t>itrifikačné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  <a:ea typeface="Arial"/>
              </a:rPr>
              <a:t> baktérie môžu žiť v symbióze s koreňmi rastlín (napríklad jelše) v špecializovaných hľuzkovitých útvaroch alebo žijú voľne v pôde, najčastejšie v oblasti rizosfér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;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i="1" lang="sk-SK" sz="1600" spc="-1" strike="noStrike">
                <a:solidFill>
                  <a:srgbClr val="000000"/>
                </a:solidFill>
                <a:latin typeface="Arial"/>
                <a:ea typeface="Arial"/>
              </a:rPr>
              <a:t>ymbiotické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  <a:ea typeface="Arial"/>
              </a:rPr>
              <a:t> nitrifikačné baktérie vytvárajú vzťahy aj s ďalšími skupinami organizmov: 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  <a:ea typeface="Arial"/>
              </a:rPr>
              <a:t>lišajníkmi, hubami, ale aj napríklad s podkôrnym hmyzom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  <a:ea typeface="Arial"/>
              </a:rPr>
              <a:t> (žijú v jeho tráviacom trakte)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.v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  <a:ea typeface="Arial"/>
              </a:rPr>
              <a:t>oľne žijúce dusíkaté baktérie (napríklad cyanobaktérie), žijú najčastejšie vo vrchných vrstvách pôdy a v odumretých kmeňoch stromov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.b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  <a:ea typeface="Arial"/>
              </a:rPr>
              <a:t>aktérie sa v pôde, podobne ako huby, koncentrujú v rizosfére, kde využívajú zdroje energeticky bohatých látok. Podieľajú sa na dekompozícií organickej hmoty čím uvoľňujú živiny prístupné pre rastliny a huby. 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Text Box 4"/>
          <p:cNvSpPr/>
          <p:nvPr/>
        </p:nvSpPr>
        <p:spPr>
          <a:xfrm>
            <a:off x="324000" y="620640"/>
            <a:ext cx="86407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  <a:ea typeface="Arial"/>
              </a:rPr>
              <a:t>unkčne sú rôzne skupiny baktérií úzko špecializované na spracovanie konkrétnych substrátov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, v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  <a:ea typeface="Arial"/>
              </a:rPr>
              <a:t> pôde však predstavuje spoločenstvo baktérií zložité konzorcium na sebe závislých skupín, v ktorom sú metabolické dráhy navzájom zložito previazané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, v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  <a:ea typeface="Arial"/>
              </a:rPr>
              <a:t> globálnom meradle sa baktérie podieľajú na 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  <a:ea typeface="Arial"/>
              </a:rPr>
              <a:t>cykloch viacerých biogénnych prvkov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  <a:ea typeface="Arial"/>
              </a:rPr>
              <a:t>, najmä N, P, S, Fe a Mg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1" i="1" lang="sk-SK" sz="1600" spc="-1" strike="noStrike">
                <a:solidFill>
                  <a:srgbClr val="000000"/>
                </a:solidFill>
                <a:latin typeface="Arial"/>
                <a:ea typeface="Arial"/>
              </a:rPr>
              <a:t>aktérie produkujú rozmanité biologicky aktívne látky dôležité pre rastliny a ďalšie pôdne organizmy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sk-SK" sz="1600" spc="-1" strike="noStrike">
                <a:solidFill>
                  <a:srgbClr val="000000"/>
                </a:solidFill>
                <a:latin typeface="Arial"/>
                <a:ea typeface="Arial"/>
              </a:rPr>
              <a:t>- </a:t>
            </a:r>
            <a:r>
              <a:rPr b="1" i="1" lang="en-US" sz="1600" spc="-1" strike="noStrike">
                <a:solidFill>
                  <a:srgbClr val="fb9318"/>
                </a:solidFill>
                <a:latin typeface="Arial"/>
                <a:ea typeface="Arial"/>
              </a:rPr>
              <a:t>t</a:t>
            </a:r>
            <a:r>
              <a:rPr b="1" i="1" lang="sk-SK" sz="1600" spc="-1" strike="noStrike">
                <a:solidFill>
                  <a:srgbClr val="fb9318"/>
                </a:solidFill>
                <a:latin typeface="Arial"/>
                <a:ea typeface="Arial"/>
              </a:rPr>
              <a:t>ieto látky môžu stimulovať rast rastlín a húb alebo pôsobiť proti ich patogénnom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.b</a:t>
            </a:r>
            <a:r>
              <a:rPr b="1" i="1" lang="sk-SK" sz="1600" spc="-1" strike="noStrike">
                <a:solidFill>
                  <a:srgbClr val="000000"/>
                </a:solidFill>
                <a:latin typeface="Arial"/>
                <a:ea typeface="Arial"/>
              </a:rPr>
              <a:t>aktérie žijúce v rizosfére môžu urýchľovať kolonizáciu koreňov mykoritickými hubami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1" i="1" lang="sk-SK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1" i="1" lang="sk-SK" sz="1600" spc="-1" strike="noStrike">
                <a:solidFill>
                  <a:srgbClr val="000000"/>
                </a:solidFill>
                <a:latin typeface="Arial"/>
                <a:ea typeface="Arial"/>
              </a:rPr>
              <a:t>olo zistené, že mycélium huby, ktoré sa zatiaľ nedostalo ku koreňom symbiotickej rastliny, dokáže vďaka baktériám dlhšie prežívať bez hostiteľskej rastliny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sk-SK" sz="16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b</a:t>
            </a:r>
            <a:r>
              <a:rPr b="1" i="1" lang="sk-SK" sz="1600" spc="-1" strike="noStrike">
                <a:solidFill>
                  <a:srgbClr val="000000"/>
                </a:solidFill>
                <a:latin typeface="Arial"/>
                <a:ea typeface="Arial"/>
              </a:rPr>
              <a:t>aktérie súčasne stimulujú rast mycélia huby, ale aj produkciu spór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1" i="1" lang="sk-SK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1" i="1" lang="sk-SK" sz="1600" spc="-1" strike="noStrike">
                <a:solidFill>
                  <a:srgbClr val="000000"/>
                </a:solidFill>
                <a:latin typeface="Arial"/>
                <a:ea typeface="Arial"/>
              </a:rPr>
              <a:t>iektoré baktérie dokonca žijú endosymbioticky s hýfami húb, to znamená, že prinajmenšom časť svojho životného cyklu trávia v hubových vláknach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  <a:ea typeface="Arial"/>
              </a:rPr>
              <a:t> (Gryndle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  <a:ea typeface="Arial"/>
              </a:rPr>
              <a:t>2004).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.b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  <a:ea typeface="Arial"/>
              </a:rPr>
              <a:t>aktérie sú </a:t>
            </a:r>
            <a:r>
              <a:rPr b="1" lang="sk-SK" sz="1600" spc="-1" strike="noStrike">
                <a:solidFill>
                  <a:srgbClr val="fb9318"/>
                </a:solidFill>
                <a:latin typeface="Arial"/>
                <a:ea typeface="Arial"/>
              </a:rPr>
              <a:t>najstaršie a súčasne najpočetnejšie organizmy na Zemi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.a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  <a:ea typeface="Arial"/>
              </a:rPr>
              <a:t>daptovali sa na najrozmanitejšie životné podmienky a vyvinuli väčšinu metabolických procesov nachádzajúcich sa v súčasných živých organizmoch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.b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  <a:ea typeface="Arial"/>
              </a:rPr>
              <a:t>aktérie disponujú v globálnom meradle obrovským množstvom informácií uloženými v ich DNA (resp. RNA). 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Text Box 4"/>
          <p:cNvSpPr/>
          <p:nvPr/>
        </p:nvSpPr>
        <p:spPr>
          <a:xfrm>
            <a:off x="611280" y="549360"/>
            <a:ext cx="4176720" cy="473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.t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  <a:ea typeface="Arial"/>
              </a:rPr>
              <a:t>ieto informácie si baktérie navzájom vymieňajú pri tzv. 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  <a:ea typeface="Arial"/>
              </a:rPr>
              <a:t>konjugácii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.t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  <a:ea typeface="Arial"/>
              </a:rPr>
              <a:t>akýmto spôsobom sa dokážu rýchlo </a:t>
            </a:r>
            <a:r>
              <a:rPr b="1" i="1" lang="sk-SK" sz="1600" spc="-1" strike="noStrike">
                <a:solidFill>
                  <a:srgbClr val="fb9318"/>
                </a:solidFill>
                <a:latin typeface="Arial"/>
                <a:ea typeface="Arial"/>
              </a:rPr>
              <a:t>adaptovať na zmeny podmienok prostredia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  <a:ea typeface="Arial"/>
              </a:rPr>
              <a:t> a preto pravdepodobne aj stabilizovať lesný ekosystém (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van Elsas et al 2003)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.j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  <a:ea typeface="Arial"/>
              </a:rPr>
              <a:t>e pravdepodobné, že miliardy rokov stará pamäť baktérií im </a:t>
            </a:r>
            <a:r>
              <a:rPr b="0" lang="sk-SK" sz="1600" spc="-1" strike="noStrike">
                <a:solidFill>
                  <a:srgbClr val="fb9318"/>
                </a:solidFill>
                <a:latin typeface="Arial"/>
                <a:ea typeface="Arial"/>
              </a:rPr>
              <a:t>umožňuje reagovať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  <a:ea typeface="Arial"/>
              </a:rPr>
              <a:t> na zriedkavo sa vyskytujúce javy, ako napríklad </a:t>
            </a:r>
            <a:r>
              <a:rPr b="1" i="1" lang="sk-SK" sz="1600" spc="-1" strike="noStrike">
                <a:solidFill>
                  <a:srgbClr val="000000"/>
                </a:solidFill>
                <a:latin typeface="Arial"/>
                <a:ea typeface="Arial"/>
              </a:rPr>
              <a:t>zmeny chemizmu atmosféry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.j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  <a:ea typeface="Arial"/>
              </a:rPr>
              <a:t>e tiež možné, že vďaka </a:t>
            </a:r>
            <a:r>
              <a:rPr b="1" i="1" lang="sk-SK" sz="1600" spc="-1" strike="noStrike">
                <a:solidFill>
                  <a:srgbClr val="000000"/>
                </a:solidFill>
                <a:latin typeface="Arial"/>
                <a:ea typeface="Arial"/>
              </a:rPr>
              <a:t>genetickej pamäti „vedia“ rozpoznať prichádzajúce zmeny a produkujú signálne molekuly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  <a:ea typeface="Arial"/>
              </a:rPr>
              <a:t>, na ktoré reagujú ostatní členovia biologického spoločenstva lesa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1188" name="Picture 5" descr="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4859280" y="692280"/>
            <a:ext cx="347976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Text Box 4"/>
          <p:cNvSpPr/>
          <p:nvPr/>
        </p:nvSpPr>
        <p:spPr>
          <a:xfrm>
            <a:off x="324000" y="404640"/>
            <a:ext cx="84247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  <a:ea typeface="Arial"/>
              </a:rPr>
              <a:t>Aktinomycéty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.a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  <a:ea typeface="Arial"/>
              </a:rPr>
              <a:t>ktinomycéty sú v niektorých lesných pôdach veľmi početné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.p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  <a:ea typeface="Arial"/>
              </a:rPr>
              <a:t>rodukujú veľké množstvo chemikálií, vrátane látok, ktoré inhibujú rast rastlín, húb a iných baktérií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  <a:ea typeface="Arial"/>
              </a:rPr>
              <a:t>dokážu prežívať aj v extrémnych podmienkach prostredi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, n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  <a:ea typeface="Arial"/>
              </a:rPr>
              <a:t>a holorubných plochách sa obyčajne prudko zvýši množstvo aktinomycét na úkor symbiotických druhov organizmov, čo môže spôsobiť ťažkosti s obnovou lesa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  <a:ea typeface="Arial"/>
              </a:rPr>
              <a:t>Sinice a Riasy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.s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  <a:ea typeface="Arial"/>
              </a:rPr>
              <a:t>inice a riasy sú fotosyntetizujúce organizmy žijúce vo vrchných vrstvách pôdy, kde sa dostáva slnečné žiarenie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r>
              <a:rPr b="1" i="1" lang="en-US" sz="1600" spc="-1" strike="noStrike">
                <a:solidFill>
                  <a:srgbClr val="fb9318"/>
                </a:solidFill>
                <a:latin typeface="Arial"/>
                <a:ea typeface="Arial"/>
              </a:rPr>
              <a:t>i</a:t>
            </a:r>
            <a:r>
              <a:rPr b="1" i="1" lang="sk-SK" sz="1600" spc="-1" strike="noStrike">
                <a:solidFill>
                  <a:srgbClr val="fb9318"/>
                </a:solidFill>
                <a:latin typeface="Arial"/>
                <a:ea typeface="Arial"/>
              </a:rPr>
              <a:t>ch počet v jednom grame pôdy môže dosahovať až 100 000 jedincov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.n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  <a:ea typeface="Arial"/>
              </a:rPr>
              <a:t>iektoré sinice a riasy sa tiež podieľajú na nitrifikácii vzdušného dusík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, s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  <a:ea typeface="Arial"/>
              </a:rPr>
              <a:t>tabilizujú vrchnú vrstvu pôdy a tak ju chránia pred eróziou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  <a:ea typeface="Arial"/>
              </a:rPr>
              <a:t>Jednobunkovce (prvoky)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.p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  <a:ea typeface="Arial"/>
              </a:rPr>
              <a:t>rvoky obývajúce pôdu sú najmä požierači baktérií a organických zvyškov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  <a:ea typeface="Arial"/>
              </a:rPr>
              <a:t>timulujú cyklus živín a menia štruktúru pôdy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.s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  <a:ea typeface="Arial"/>
              </a:rPr>
              <a:t>amotné jednobunkovce sú hlavným zdrojom potravy pre niektoré bezstavovce 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Text Box 4"/>
          <p:cNvSpPr/>
          <p:nvPr/>
        </p:nvSpPr>
        <p:spPr>
          <a:xfrm>
            <a:off x="395280" y="404640"/>
            <a:ext cx="842472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  <a:ea typeface="Arial"/>
              </a:rPr>
              <a:t>Huby mykoritické, saprofytické a parazitické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  <a:ea typeface="Arial"/>
              </a:rPr>
              <a:t>Saprofytické huby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  <a:ea typeface="Arial"/>
              </a:rPr>
              <a:t> patria medzi organizmy najvýznamnejšie ovplyvňujúce cyklus živín prostredníctvom dekompozície organických látok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(v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  <a:ea typeface="Arial"/>
              </a:rPr>
              <a:t> menšej miere sa na rozklade organických látok podieľajú aj mykoritické hub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r>
              <a:rPr b="0" lang="en-US" sz="1600" spc="-1" strike="noStrike">
                <a:solidFill>
                  <a:srgbClr val="fb9318"/>
                </a:solidFill>
                <a:latin typeface="Arial"/>
                <a:ea typeface="Arial"/>
              </a:rPr>
              <a:t>r</a:t>
            </a:r>
            <a:r>
              <a:rPr b="0" lang="sk-SK" sz="1600" spc="-1" strike="noStrike">
                <a:solidFill>
                  <a:srgbClr val="fb9318"/>
                </a:solidFill>
                <a:latin typeface="Arial"/>
                <a:ea typeface="Arial"/>
              </a:rPr>
              <a:t>ozklad organických látok je sprevádzaný sukcesiou spoločenstva rozkladačov, pričom výsledný produkt metabolizmu určitého druhu organizmu (spoločenstva) sa stáva východiskovým substrátom pre iný druh (spoločenstvo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1" i="1" lang="sk-SK" sz="1600" spc="-1" strike="noStrike">
                <a:solidFill>
                  <a:srgbClr val="000000"/>
                </a:solidFill>
                <a:latin typeface="Arial"/>
                <a:ea typeface="Arial"/>
              </a:rPr>
              <a:t>ajlepšie viditeľná je táto sukcesia pri rozklade ťažko rozložiteľných rastlinných pletív, napríklad odumretého dreva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  <a:ea typeface="Arial"/>
              </a:rPr>
              <a:t>, ktoré v procese rozkladu postupne mení svoju štruktúru, vlhkosť a ďalšie fyzikálne a chemické vlastnosti, čím sa stáva prístupné vždy pre iné spoločenstvo rozkladačov (Gutowski 2004) 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.i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  <a:ea typeface="Arial"/>
              </a:rPr>
              <a:t>ntenzívna dekompozícia organických látok prebieha najmä vo vrchnej prehumóznenej časti pôdy, pretože práve tu je koncentrovaných najviac organických látok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  <a:ea typeface="Arial"/>
              </a:rPr>
              <a:t>úplný rozklad organických látok trvá podľa typu substrátu a podmienok prostredia obyčajne niekoľko rokov až niekoľko stáročí .počas tohto obdobia sa do pôdneho roztoku postupne uvoľňujú živiny, ktoré sú vzápätí prijímané hýfami mykoritických húb a koreňmi rastlín a tak znovu zabudovávané do živých organizmov 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7T13:46:18Z</dcterms:created>
  <dc:creator>nikho</dc:creator>
  <dc:description/>
  <dc:language>en-US</dc:language>
  <cp:lastModifiedBy>PC</cp:lastModifiedBy>
  <dcterms:modified xsi:type="dcterms:W3CDTF">2023-02-28T11:17:04Z</dcterms:modified>
  <cp:revision>28</cp:revision>
  <dc:subject/>
  <dc:title>Pôdny edafón</dc:title>
</cp:coreProperties>
</file>