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ADB0-2B8A-4240-B7A0-DF91E4BCA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C4B2-004C-420A-915B-DFC22A43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E126EF-4666-4AA0-BFE0-2CDDF193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DC9759-200D-4518-B42F-DDC9E191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7D5959-0467-4B37-8438-61D7F09E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2D4E5-531A-431B-9DFE-80FA6CE6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7EEE0C-6D32-4F15-BC62-3281ED36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6188A-533B-41C1-A770-E1B01D86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88A6BB-644C-49B6-88C3-DD1E9210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DF0ACB-AD6B-4DC2-A573-C3228BD22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D3444B-069B-4BF3-8DAE-A13BA4A21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3566CE-51F6-4623-A798-A3B41675E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CA09-E74F-4438-B370-D993BA3D7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AA4FE7-4B9B-4558-A253-5C653A22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03A819-524C-46C5-9ECA-B832BAE1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231FBF-0DCC-4D19-B3B4-3EBDB2AA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D64340-B7FF-4C78-BD07-FAE528A7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DE7FC5-0475-4585-A266-DA69F541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63579E-A24E-4D5F-8B70-EDED866B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0041C-B77B-4D94-BA20-90E9B839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5B5E5D-DA83-4145-A2C3-FD3C81B9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CDAC6-801F-433F-AC18-0A16891B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296E9-1A3C-467B-BC5A-28CA1AEE7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9928-2D1D-442E-B86A-531FD79E4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11E1E2-AE12-4530-9F23-4DF1E3489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9B87C-0726-47CB-A9C3-18951709B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A1329-CD24-45F2-96DB-65B3539C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045A57-F016-49F0-852F-86F49B23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90C344-6721-40F7-8952-820A038F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048A7-5EFC-4189-A2DD-9CA91F4E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6EA16-151A-4131-BBFF-11A9E0C8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281DE-ECAD-43AF-8618-F0942557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ED31B-8128-49D2-B167-7A9F5E58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9D7BDB-119D-408B-BA86-3E16D0D0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D311-5E6C-4299-B9A4-43E47ABB0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8E07D-FEE8-4D57-A7CA-0591543F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3C963-F066-45DB-B096-7AA7BBA45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C427CD-EE95-4CBC-86B9-8B597ED40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CA84A1-673E-4192-A17C-737D3C85A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85BCE7-0490-454C-8FBB-46AC007E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5DA682-3A2C-464A-829C-A43C9C72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199335-9C6D-473C-9BF5-44B44A5E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C58835-F833-4CD2-86C4-EC4104EC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1D19E5-4CD0-4450-B080-EFFC29CC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454155-D079-4FCF-80AF-25F9E262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218E-AA93-4338-81A0-573DA85F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841D8F-5BC6-4EA1-8D20-9763986E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55C8A9-FD71-4762-8045-5724DC02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2DD7AC-06EE-4E0E-A0BB-870B50F7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917C69-1411-4543-9C09-72B125EA3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A3E12E-8C73-4B3B-9B4A-2EAFB70F2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CFB889-D1BA-4053-B76E-200EB4510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ED998F-2194-4FBC-9DD1-E4395275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EFD779-C3CD-4340-844F-474BB906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B373E3-9DB7-4239-BC00-7A6250D5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D544A9-B98F-4F3D-B2F4-8352AACD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77E8-51B1-4E41-8E4A-3610C1EE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B98C28-AAF2-4569-9ECC-D9680A17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4F0424-95C8-488B-9930-8EEC6DA3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BB024A-32AF-4BE9-B458-58A2FC61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BFC1DF-3086-4C7C-AC3D-F31AF482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A99EFD-0D25-4846-AFCF-CFD8F3E6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66F8A7-34C3-430B-990E-93045B1B4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82A767-E02E-42ED-917E-3D383A47F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86593B-A24F-4556-9644-CDAD08266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58E551-56E1-4428-992C-4218CEB3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F5BDA0-79B6-49E6-9688-7C4E0FB3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A02A-2D58-4F41-84AD-1D1008A6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A7ADEB-AA01-4576-9C24-B7244DC9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AB69B4-1F97-4274-8F2F-51A05DFE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BCE662-BC01-4C5D-8FBF-E0044664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885213-CF40-46BE-911F-3C914872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994BE9-DC76-4F21-9427-25BF53EA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AFA2C3-5D07-4B84-9052-3765E779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5460D9-AB7E-459D-B255-469E8C8B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2A1DB8-69B1-459A-8A6D-25AE8C273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D586C4-5FA6-44BA-816A-833489E45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1B9042-1E85-4BC8-8A24-7446FA9B1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0B00-A383-411E-B4CE-657CD060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3C3F1F-08AF-464B-860F-B7BE6522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1E2D28-6770-4878-A3F9-D93DD086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1B2503-A640-4B2F-B2C1-C00C2D41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1F7828-1621-45E2-A336-C205CB4B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80A682-7B9C-45E6-A31C-7AC16FDD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B6FFCB-A46E-4F92-85C9-BF987F30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2B8F51-AED9-4EF4-AE27-C4A1D776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D5CADA-AC41-40D0-8652-D27C21D2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5B9B85-790F-465D-98CB-E0596B1E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9FCE1E-3543-4A07-B1A1-CE9193C6D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5064-5BBD-49D1-9137-6F629641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706D2A-231E-4F06-A41D-A02037D50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FD0676-4BF9-4EDF-90E1-FFEA35CA4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1F48CC-1C5E-4C4D-BA50-A7BB1F2B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FD2DFD-E5C6-4961-BA0C-66357F44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E20AF2-CA24-41B1-890E-12D892F0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A2F3B0-2BC1-4E26-96E0-26E9D600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61D4BE-289B-4CB6-8299-B34F6B4D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339DA5-2AC5-488C-AF11-9313BB52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61F388-8EE2-4503-8F27-86DAD824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643876-7B42-4527-A865-E1DE3EA9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6EF6-000A-43FE-AA19-69E61BC3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29CACA-77FB-4404-ACF8-CDA32A35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72CD7C-C269-4196-8E4B-45538F51E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630E82-7FC4-4CC7-874F-DD0392B8C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C4796E-3EE8-4EA0-8AB3-98205B813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5B701C-A32B-45EE-A484-FE3C4D5F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264866-A3F9-4022-AC76-491E7903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7F0A48-CB30-4953-8FDA-2E5FE0C6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563B84-C8F6-4FE9-BF25-D7B7F43D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9630EF-2D74-42CE-8C46-39F674CD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D1F8C6-8AB7-46F4-A006-8101C35E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6320-B5BA-455A-AD87-BD9F89FB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BA5A-9901-41BF-B57E-F1FA5A6B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DF28A1-7095-4B20-9E0A-45FE4E37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BBE21D-41B8-48C8-A44F-4E99AFA3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5AE1E4-4E3B-41CB-9B8C-21DE0774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455995-8BA4-47EF-86F7-475B2278E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39410F-ADA6-4E00-9E48-4A2754B15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CA4DF-E863-40B4-9566-47940548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5B08-5E2B-454E-B18D-8774091B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FB897-23C5-44B4-B961-39D5C81F6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4599-464E-479F-B3BF-84A39BD5B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8CE6F-D6F8-490B-AC68-FEBC4C637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97D2B-AFFA-4305-A17D-BC0717E2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2FDAD-6CB5-4443-ABBB-7CC8FB3E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F6264-B82D-4DA7-8E53-4AC5B50F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7C1D2-B3E1-42B8-8EA5-C4979F2E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5879-DA52-4471-B8A7-A7D3BD94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27370-C1A6-4249-9FE0-4A802059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211C4-0265-45DE-8163-1339AD1D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D6CAB-A1D9-4F43-AC21-0C8912B0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82E6E-411E-40E0-8D35-BED52D0B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6A605-07CE-40AD-BAB9-9E428125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ACC4F-EA92-41AC-ACD1-B833640DD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A71B2-20AD-4519-83AF-B08EFD55F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C8272-C6DE-44CB-90F3-348D7F79E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4D96E-EB7D-4758-9051-2140E2AF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B7EE8-C632-4682-90F3-8D41CC89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A962-44E7-440E-A639-7E335F35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CB98A-2B4A-41D6-AEE0-71AC9C2C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21E6A-3B80-495C-8103-43AC602E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99CBA-E1C7-43C1-8922-4A230935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02F80-273E-4561-A54C-738E65B2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3AC78-628C-4E2D-AB4F-DBF7D3FB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41A15-7F25-462D-B216-C7F7F1F9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4776F-D529-4A59-B9A4-BD8A1913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B5494-7DA2-4AEC-B241-238E880AE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26D12-3CC5-41D5-AFBF-8CB8BE2F8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0E73A-B8CA-4C97-BDE3-DA514895B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85EB-DB86-4259-8B5C-BF7576F3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D7850-4874-4FD1-9930-E694D6BF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40411-E3CA-4CB0-B71A-A37C4700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E9BDE-CC17-4B61-B4D0-5A824F50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E921B-54A5-495E-ACBC-C6EDC31A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8D0A6-96C3-408A-93F1-C6701B43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EF817-7C0A-42FC-85DD-274995F2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CB3FA-397F-487A-865B-D374674E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B6DB7-AD5A-4BA9-B058-2F9B7549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01058-F0BD-4A82-BF40-0DBDAE1F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273DA-9D05-4B57-AF42-D65BD156B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EAB3-8253-4D42-BCCC-A5838F88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AAEF1-F7FE-4CA7-9D3D-9826FED61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CF6A5-8DD0-4A19-BF9F-E3BD86FA4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5AE38-D159-4DAF-A68D-0A978979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0BBC9-6FA7-4EA5-8F03-CF339963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90F67-C690-44E8-90D1-856D4DEA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0EE0F-7183-4C8E-AF21-27165BE9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4DDC8-3D6D-4668-BBF5-599C56C1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51616-360D-411C-B134-5E2C78AD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D8413-3F99-4E53-A4E2-6AD70847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51B20-F6C7-4279-9330-A324F22A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3749-1D6F-4DA5-89F1-44B611A7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CDB5E-A341-4341-8A0C-DBF4ECC1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C3EBB-C11F-4B51-9EBE-CA53C0649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73986-8644-4B81-B453-D652D3F26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63A4C-B1B3-4DB1-A789-188DD088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09EF4-67B4-4B5D-BC4A-02E7962E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068FD-8829-42D7-8007-5E0A8651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1FE01-0392-41C5-B93E-4ADA8423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4006B-4C5D-43B4-9D19-20DF4B14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648FA-EAC5-42AB-9F70-6911AD28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4D7B1-850C-4C1E-A24A-A3921F0A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B69E-D124-4BA7-8698-D153E6F8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A0FB8-2BC5-41F8-B035-EBDE3FB4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43BB6-5957-4209-BE12-DA6C4868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65D41-650D-43F1-A455-C0FB29F0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DF4C6-A7B2-4D5E-B113-93A2BC5FD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65435-FAA3-4046-87F1-3F91AA508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352B0-08D0-4EA3-A5F2-00AC93141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56551-56E4-4850-8AEF-A5CDA90E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B9FD3-11F3-48B9-B1B6-CAB76FF9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6B2F2-D280-4253-A9A1-64A824C5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902C0-A851-4B10-8E09-032AED14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8FAB-246B-4FED-AA05-BD3A6319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9BF2D-955F-4DB1-98FF-493E4A66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A363D-03A4-4839-9D81-8CCBE49B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4B22D-AF85-4F61-9046-D369E474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89CFA-921B-470C-A641-789C1E1B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44778-2DB2-4413-B601-B2B2DD29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2CC7A-8630-4176-A563-72879EDAE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CE581-1330-4AB0-9D5B-3E853264B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6121F-32C3-48B7-A52A-57A32378D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25641C-DC3F-4BEB-80AE-B9CB614E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99421-A310-41E4-A8E5-05759267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982E-348A-41B9-9E6C-5B9F7ED5254F}" type="slidenum">
              <a:rPr b="0" lang="cs-CZ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C30D-FA22-42E0-9E90-41FB4AB2A5F2}" type="slidenum">
              <a:rPr b="0" lang="cs-CZ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5A10-C214-4916-8EF6-9E8C832B10B3}" type="slidenum">
              <a:rPr b="0" lang="cs-CZ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14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94A9-A49B-40A1-A105-74622DA294D8}" type="slidenum">
              <a:rPr b="0" lang="cs-CZ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CB8F-30C0-447B-9FF4-D448C4E6C299}" type="slidenum">
              <a:rPr b="0" lang="cs-CZ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10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11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A821-66CA-4C09-AB34-79482E3308AD}" type="slidenum">
              <a:rPr b="0" lang="cs-CZ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1FD8-86DD-43F5-BC52-851765E14622}" type="slidenum">
              <a:rPr b="0" lang="cs-CZ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5DA2-F724-4995-965C-73E9DE57E4AE}" type="slidenum">
              <a:rPr b="0" lang="cs-CZ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8E89-2A68-4A0D-A22F-73290CA6E1C7}" type="slidenum">
              <a:rPr b="0" lang="cs-CZ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6E4F-1C35-48A8-94FC-214125B31E1C}" type="slidenum">
              <a:rPr b="0" lang="cs-CZ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CAB3-3225-4639-95AD-B3B3DED1A1E5}" type="slidenum">
              <a:rPr b="0" lang="cs-CZ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480A-61D8-4037-9E43-3192DB4FD0F3}" type="slidenum">
              <a:rPr b="0" lang="cs-CZ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842F-4CC4-4C52-BC38-004176C3B375}" type="slidenum">
              <a:rPr b="0" lang="cs-CZ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8E8F-2148-4567-BC02-BC6F0E248F53}" type="slidenum">
              <a:rPr b="0" lang="cs-CZ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6E93-5819-4346-BA7C-FF3456F9F5E8}" type="slidenum">
              <a:rPr b="0" lang="cs-CZ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2400-5FB2-47F8-8FB9-8246610F45D7}" type="slidenum">
              <a:rPr b="0" lang="cs-CZ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A098-35B9-445B-92EC-B5EF4B8AB967}" type="slidenum">
              <a:rPr b="0" lang="cs-CZ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nviro.gov.sk/" TargetMode="External"/><Relationship Id="rId2" Type="http://schemas.openxmlformats.org/officeDocument/2006/relationships/hyperlink" Target="http://www.sazp.sk/" TargetMode="External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4400" spc="-1" strike="noStrike">
                <a:solidFill>
                  <a:srgbClr val="262626"/>
                </a:solidFill>
                <a:latin typeface="Century Gothic"/>
              </a:rPr>
              <a:t>pH pôd, reakcia pôdy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3200" spc="-1" strike="noStrike">
                <a:solidFill>
                  <a:srgbClr val="595959"/>
                </a:solidFill>
                <a:latin typeface="Century Gothic"/>
              </a:rPr>
              <a:t>Pojem pH, jeho závislosti a hodnoty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"/>
          <p:cNvSpPr txBox="1"/>
          <p:nvPr/>
        </p:nvSpPr>
        <p:spPr>
          <a:xfrm>
            <a:off x="1692360" y="1628280"/>
            <a:ext cx="6767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404040"/>
                </a:solidFill>
                <a:latin typeface="Arial"/>
                <a:ea typeface="Arial"/>
              </a:rPr>
              <a:t>Náporu protónov  musí pôda čeliť a kyslosť neutralizovať. Existuje celý rad zlúčenín a reakcií, ktoré označujeme ako tlmivé. Ich pomocou sa pôda, jedna viac a dlho, iná menej a kratšiu dobu dokáže so zakyslením vyrovnávať. Takéto zlúčeniny sú v zasolených pôdach rôzne ľahko rozpustné soli, v pôdach nezasolených karbonáty Ca, Mg pôdne koloidy ( ílové nerasty, humus, zlúčeniny železa, hliníka), ale aj prvotné nerasty, ktoré zvetrávaním uvoľňujú bázy  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404040"/>
                </a:solidFill>
                <a:latin typeface="Arial"/>
                <a:ea typeface="Arial"/>
              </a:rPr>
              <a:t>Ak pôda obsahuje karbonáty nemôže sa zakysliť dovtedy, kým trvajú, lebo protóny sú nimi neutralizované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404040"/>
                </a:solidFill>
                <a:latin typeface="Arial"/>
                <a:ea typeface="Arial"/>
              </a:rPr>
              <a:t>Ak pôda neobsahuje karbonáty, ale má zásobu primárnych zvetrateľných nerastov (augit, amfibol, biotit, plagioklasy atď.) uvoľňujúcich bázy, môžu sa tieto podieľať na neutralizácii kyslých zložiek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404040"/>
                </a:solidFill>
                <a:latin typeface="Arial"/>
                <a:ea typeface="Arial"/>
              </a:rPr>
              <a:t>Ílové nerasty a humínové látky tiež pôsobia tlmivo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404040"/>
                </a:solidFill>
                <a:latin typeface="Arial"/>
                <a:ea typeface="Arial"/>
              </a:rPr>
              <a:t>Kyslé pôdy vápnime, ak sme nahradili vodík a hliník, silne alkalické pôdy s nadbytkom sodíka sadrujeme a premývame, aby sme najskôr sodík vytlačili z komplexu a potom ho z pôdy vymyli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404040"/>
                </a:solidFill>
                <a:latin typeface="Arial"/>
                <a:ea typeface="Arial"/>
              </a:rPr>
              <a:t>K vápneniu sa používajú: mletý vápenec, dolomit, pálené vápno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800" spc="-1" strike="noStrike">
                <a:solidFill>
                  <a:srgbClr val="404040"/>
                </a:solidFill>
                <a:latin typeface="Century Gothic"/>
              </a:rPr>
              <a:t> 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800" spc="-1" strike="noStrike">
                <a:solidFill>
                  <a:srgbClr val="262626"/>
                </a:solidFill>
                <a:latin typeface="Century Gothic"/>
              </a:rPr>
              <a:t>Zdroj: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800" spc="-1" strike="noStrike">
                <a:solidFill>
                  <a:srgbClr val="404040"/>
                </a:solidFill>
                <a:latin typeface="Century Gothic"/>
              </a:rPr>
              <a:t>PEDOLÓgia – Prof.Ing.Rudolf Šály,DrSc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800" spc="-1" strike="noStrike" u="sng">
                <a:solidFill>
                  <a:srgbClr val="fb4a18"/>
                </a:solidFill>
                <a:uFillTx/>
                <a:latin typeface="Century Gothic"/>
                <a:hlinkClick r:id="rId1"/>
              </a:rPr>
              <a:t>www.enviro.gov.sk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800" spc="-1" strike="noStrike" u="sng">
                <a:solidFill>
                  <a:srgbClr val="fb4a18"/>
                </a:solidFill>
                <a:uFillTx/>
                <a:latin typeface="Century Gothic"/>
                <a:hlinkClick r:id="rId2"/>
              </a:rPr>
              <a:t>www.sazp.sk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800" spc="-1" strike="noStrike">
                <a:solidFill>
                  <a:srgbClr val="404040"/>
                </a:solidFill>
                <a:latin typeface="Century Gothic"/>
              </a:rPr>
              <a:t>googl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692360" y="404280"/>
            <a:ext cx="65880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3600" spc="-1" strike="noStrike">
                <a:solidFill>
                  <a:srgbClr val="262626"/>
                </a:solidFill>
                <a:latin typeface="Arial"/>
                <a:ea typeface="Arial"/>
              </a:rPr>
              <a:t>Pojem pH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1187280" y="980640"/>
            <a:ext cx="65916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400" spc="-1" strike="noStrike">
                <a:solidFill>
                  <a:srgbClr val="404040"/>
                </a:solidFill>
                <a:latin typeface="Arial"/>
                <a:ea typeface="Arial"/>
              </a:rPr>
              <a:t>Ako je známe z chémie, pH, teda Sorensenov vodíkový exponent je mierou kyslosti či zásaditosti. </a:t>
            </a:r>
            <a:r>
              <a:rPr b="1" lang="sk-SK" sz="1400" spc="-1" strike="noStrike">
                <a:solidFill>
                  <a:srgbClr val="404040"/>
                </a:solidFill>
                <a:latin typeface="Arial"/>
                <a:ea typeface="Arial"/>
              </a:rPr>
              <a:t>Je definovaný ako záporná hodnota logaritmu aktivity vodíkových iónov v roztoku. Pri hodnote 7 sú roztoky neutrálne, pod 7 kyslé, nad 7 alkalické. Ióny H+ sú pôvodcom kyslej reakcie.</a:t>
            </a:r>
            <a:r>
              <a:rPr b="0" lang="sk-SK" sz="1400" spc="-1" strike="noStrike">
                <a:solidFill>
                  <a:srgbClr val="404040"/>
                </a:solidFill>
                <a:latin typeface="Arial"/>
                <a:ea typeface="Arial"/>
              </a:rPr>
              <a:t> Hydroxylanové ióny vyvolávajú zasaditú reakciu. Čím je pH číslo nižšie, tým je kyslosť (acidita) roztoku vyššia a naopak, čím je pH vyššie, tým je kyslosť menšia a zásaditosť (alkalita) vyššia. Pri porovnaní reakčných čísel sa nesmie zabudnúť, že tieto čísla znamenajú záporné exponenty, t. j. že hodnota pH vzrastá alebo klesá od jedného celého čísla k druhému o desaťnásobok. Teda napr. pH=6 znamená v porovnaní s pH=3 koncentráciu vodíkových iónov tisíckrát menšiu. Ako ďalší príklad: medzi vzorkami s pH=7 a pH=6,7 je menší absolútny rozdiel v koncentrácii, ako medzi dvojicou s pH=4 a pH=3,7 (v prvom prípade je rozdiel v miliontinách, v druhom v tisícinách).Preto pri zakysľovaní pokles pH v prvom prípade je ľahší a rýchlejší ako v druhom. Čím nižšie poklesne pH, tým je ďalšie zakysľovanie obtiažnejšie, tým viac treba k nemu kyslých produktov.         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3600" spc="-1" strike="noStrike">
                <a:solidFill>
                  <a:srgbClr val="262626"/>
                </a:solidFill>
                <a:latin typeface="Century Gothic"/>
              </a:rPr>
              <a:t>Pôdna reakcia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323640" y="1699920"/>
            <a:ext cx="86612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400" spc="-1" strike="noStrike">
                <a:solidFill>
                  <a:srgbClr val="404040"/>
                </a:solidFill>
                <a:latin typeface="Arial"/>
                <a:ea typeface="Arial"/>
              </a:rPr>
              <a:t>Pôda môže mať </a:t>
            </a:r>
            <a:r>
              <a:rPr b="1" lang="sk-SK" sz="1400" spc="-1" strike="noStrike">
                <a:solidFill>
                  <a:srgbClr val="404040"/>
                </a:solidFill>
                <a:latin typeface="Arial"/>
                <a:ea typeface="Arial"/>
              </a:rPr>
              <a:t>reakciu kyslú, neutrálnu a zásaditú</a:t>
            </a:r>
            <a:r>
              <a:rPr b="0" lang="sk-SK" sz="1400" spc="-1" strike="noStrike">
                <a:solidFill>
                  <a:srgbClr val="404040"/>
                </a:solidFill>
                <a:latin typeface="Arial"/>
                <a:ea typeface="Arial"/>
              </a:rPr>
              <a:t>. Pôdny roztok môžeme len obtiažne izolovať a priamo zmerať jeho pH, preto náhradou usudzujeme na reakciu podľa pH suspenzie pôdy vo vode, alebo v roztoku soli (KCl, CaCl2). </a:t>
            </a:r>
            <a:r>
              <a:rPr b="0" lang="cs-CZ" sz="1400" spc="-1" strike="noStrike">
                <a:solidFill>
                  <a:srgbClr val="404040"/>
                </a:solidFill>
                <a:latin typeface="Arial"/>
                <a:ea typeface="Arial"/>
              </a:rPr>
              <a:t>Jednou z veľmi dôležitých vlastností pôdy je jej pH hodnota. Pôdna reakcia ovplyvňuje rozpustnosť látok v pôde, a teda aj ich využiteľnosť živými organizmami, prístupnosť živín, adsorpciu a desorpciu katiónov, biochemické reakcie, štruktúru pôdy a tým aj fyzikálne vlastnosti.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404040"/>
                </a:solidFill>
                <a:latin typeface="Arial"/>
                <a:ea typeface="Arial"/>
              </a:rPr>
              <a:t>Pôdna reakcia ovplyvňuje pufrovitosť, filtráciu, kvalitu organických látok, prístupnosť živín pre rastliny a produkciu biomasy väčšiny pestovaných plodín. Väčšine kultúrnych plodín vyhovuje rozpätie od slabo kyslej po slabo alkalickú pôdnu reakciu - pH 6 - 7,5. Pôdna reakcia pod 5,5 pH je nežiaduca a vyžaduje si melioračné vápnenie. Obdobne zásadité pôdy (pH &gt; 8,4) sú z hľadiska produkčnosti limitné a vyžadujúce si patričné opatrenia.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404040"/>
                </a:solidFill>
                <a:latin typeface="Arial"/>
                <a:ea typeface="Arial"/>
              </a:rPr>
              <a:t>V dôsledku veľkej zložitosti vzťahov v pôde, rozlišuje sa pôdna reakcia na: aktívnu a výmennú. 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404040"/>
                </a:solidFill>
                <a:latin typeface="Arial"/>
                <a:ea typeface="Arial"/>
              </a:rPr>
              <a:t>Aktívna pôdna reakcia</a:t>
            </a:r>
            <a:r>
              <a:rPr b="0" lang="cs-CZ" sz="1400" spc="-1" strike="noStrike">
                <a:solidFill>
                  <a:srgbClr val="404040"/>
                </a:solidFill>
                <a:latin typeface="Arial"/>
                <a:ea typeface="Arial"/>
              </a:rPr>
              <a:t> je určovaná oxoniovými katiónmi a hydroxidovými aniónmi voľne prítomnými v pôdnom roztoku.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404040"/>
                </a:solidFill>
                <a:latin typeface="Arial"/>
                <a:ea typeface="Arial"/>
              </a:rPr>
              <a:t>Výmenná pôdna reakcia</a:t>
            </a:r>
            <a:r>
              <a:rPr b="0" lang="cs-CZ" sz="1400" spc="-1" strike="noStrike">
                <a:solidFill>
                  <a:srgbClr val="404040"/>
                </a:solidFill>
                <a:latin typeface="Arial"/>
                <a:ea typeface="Arial"/>
              </a:rPr>
              <a:t> je okrem  voľných H</a:t>
            </a:r>
            <a:r>
              <a:rPr b="0" lang="cs-CZ" sz="1400" spc="-1" strike="noStrike" baseline="30000">
                <a:solidFill>
                  <a:srgbClr val="404040"/>
                </a:solidFill>
                <a:latin typeface="Arial"/>
                <a:ea typeface="Arial"/>
              </a:rPr>
              <a:t>+</a:t>
            </a:r>
            <a:r>
              <a:rPr b="0" lang="cs-CZ" sz="1400" spc="-1" strike="noStrike">
                <a:solidFill>
                  <a:srgbClr val="404040"/>
                </a:solidFill>
                <a:latin typeface="Arial"/>
                <a:ea typeface="Arial"/>
              </a:rPr>
              <a:t> a OH</a:t>
            </a:r>
            <a:r>
              <a:rPr b="0" lang="cs-CZ" sz="1400" spc="-1" strike="noStrike" baseline="30000">
                <a:solidFill>
                  <a:srgbClr val="404040"/>
                </a:solidFill>
                <a:latin typeface="Arial"/>
                <a:ea typeface="Arial"/>
              </a:rPr>
              <a:t>-</a:t>
            </a:r>
            <a:r>
              <a:rPr b="0" lang="cs-CZ" sz="1400" spc="-1" strike="noStrike">
                <a:solidFill>
                  <a:srgbClr val="404040"/>
                </a:solidFill>
                <a:latin typeface="Arial"/>
                <a:ea typeface="Arial"/>
              </a:rPr>
              <a:t> iónov determinovaná obsahom H+ a Al</a:t>
            </a:r>
            <a:r>
              <a:rPr b="0" lang="cs-CZ" sz="1400" spc="-1" strike="noStrike" baseline="30000">
                <a:solidFill>
                  <a:srgbClr val="404040"/>
                </a:solidFill>
                <a:latin typeface="Arial"/>
                <a:ea typeface="Arial"/>
              </a:rPr>
              <a:t>3+</a:t>
            </a:r>
            <a:r>
              <a:rPr b="0" lang="cs-CZ" sz="1400" spc="-1" strike="noStrike">
                <a:solidFill>
                  <a:srgbClr val="404040"/>
                </a:solidFill>
                <a:latin typeface="Arial"/>
                <a:ea typeface="Arial"/>
              </a:rPr>
              <a:t> iónov adsorbovaných pôdnym koloidným komplexom, ktoré sa uvoľnia do pôdneho roztoku pôsobením hydrolyticky neutrálnych solí (NaCl, KCl, CaCl2). 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3600" spc="-1" strike="noStrike">
                <a:solidFill>
                  <a:srgbClr val="262626"/>
                </a:solidFill>
                <a:latin typeface="Arial"/>
                <a:ea typeface="Arial"/>
              </a:rPr>
              <a:t>Rozšírená tabuľka USDA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404040"/>
                </a:solidFill>
                <a:latin typeface="Arial"/>
                <a:ea typeface="Arial"/>
              </a:rPr>
              <a:t>Hodnotenie pH pôd sa klasifikuje slovne pomocou rozšírenej stupnice USDA.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pH/H2O________________hodnotenie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404040"/>
                </a:solidFill>
                <a:latin typeface="Arial"/>
                <a:ea typeface="Arial"/>
              </a:rPr>
              <a:t>&lt; 3,5                                    veľmi kyslá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404040"/>
                </a:solidFill>
                <a:latin typeface="Arial"/>
                <a:ea typeface="Arial"/>
              </a:rPr>
              <a:t>3,5 - 4,4                               extrémne kyslá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404040"/>
                </a:solidFill>
                <a:latin typeface="Arial"/>
                <a:ea typeface="Arial"/>
              </a:rPr>
              <a:t>4,5 - 5,0                               veľmi silne kyslá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404040"/>
                </a:solidFill>
                <a:latin typeface="Arial"/>
                <a:ea typeface="Arial"/>
              </a:rPr>
              <a:t>5,1 - 5,5                               silne kyslá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404040"/>
                </a:solidFill>
                <a:latin typeface="Arial"/>
                <a:ea typeface="Arial"/>
              </a:rPr>
              <a:t>6,1 - 6,5                               slabo kyslá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404040"/>
                </a:solidFill>
                <a:latin typeface="Arial"/>
                <a:ea typeface="Arial"/>
              </a:rPr>
              <a:t>6,6 - 7,3                               neutrálna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404040"/>
                </a:solidFill>
                <a:latin typeface="Arial"/>
                <a:ea typeface="Arial"/>
              </a:rPr>
              <a:t>7,4 - 7,8                               slabo alkalická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404040"/>
                </a:solidFill>
                <a:latin typeface="Arial"/>
                <a:ea typeface="Arial"/>
              </a:rPr>
              <a:t>7,9 - 8,4                               stredne alkalická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404040"/>
                </a:solidFill>
                <a:latin typeface="Arial"/>
                <a:ea typeface="Arial"/>
              </a:rPr>
              <a:t>8,5 - 9,0                               silne alkalická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404040"/>
                </a:solidFill>
                <a:latin typeface="Arial"/>
                <a:ea typeface="Arial"/>
              </a:rPr>
              <a:t>&gt; 9,0                                    veľmi silne alkalická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3600" spc="-1" strike="noStrike">
                <a:solidFill>
                  <a:srgbClr val="262626"/>
                </a:solidFill>
                <a:latin typeface="Arial"/>
                <a:ea typeface="Arial"/>
              </a:rPr>
              <a:t>Alkalická reakcia (zásaditá)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1115640" y="1988640"/>
            <a:ext cx="741852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800" spc="-1" strike="noStrike">
                <a:solidFill>
                  <a:srgbClr val="404040"/>
                </a:solidFill>
                <a:latin typeface="Arial"/>
                <a:ea typeface="Arial"/>
              </a:rPr>
              <a:t>Alkalickú reakciu majú len pôdy s obsahom ľahko rozpustných solí (Na</a:t>
            </a:r>
            <a:r>
              <a:rPr b="0" lang="sk-SK" sz="18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2</a:t>
            </a:r>
            <a:r>
              <a:rPr b="0" lang="sk-SK" sz="1800" spc="-1" strike="noStrike">
                <a:solidFill>
                  <a:srgbClr val="404040"/>
                </a:solidFill>
                <a:latin typeface="Arial"/>
                <a:ea typeface="Arial"/>
              </a:rPr>
              <a:t>CO</a:t>
            </a:r>
            <a:r>
              <a:rPr b="0" lang="sk-SK" sz="18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3</a:t>
            </a:r>
            <a:r>
              <a:rPr b="0" lang="sk-SK" sz="1800" spc="-1" strike="noStrike">
                <a:solidFill>
                  <a:srgbClr val="404040"/>
                </a:solidFill>
                <a:latin typeface="Arial"/>
                <a:ea typeface="Arial"/>
              </a:rPr>
              <a:t>, MgCl</a:t>
            </a:r>
            <a:r>
              <a:rPr b="0" lang="sk-SK" sz="18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2</a:t>
            </a:r>
            <a:r>
              <a:rPr b="0" lang="sk-SK" sz="1800" spc="-1" strike="noStrike">
                <a:solidFill>
                  <a:srgbClr val="404040"/>
                </a:solidFill>
                <a:latin typeface="Arial"/>
                <a:ea typeface="Arial"/>
              </a:rPr>
              <a:t>, K</a:t>
            </a:r>
            <a:r>
              <a:rPr b="0" lang="sk-SK" sz="18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2</a:t>
            </a:r>
            <a:r>
              <a:rPr b="0" lang="sk-SK" sz="1800" spc="-1" strike="noStrike">
                <a:solidFill>
                  <a:srgbClr val="404040"/>
                </a:solidFill>
                <a:latin typeface="Arial"/>
                <a:ea typeface="Arial"/>
              </a:rPr>
              <a:t>CO</a:t>
            </a:r>
            <a:r>
              <a:rPr b="0" lang="sk-SK" sz="18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3</a:t>
            </a:r>
            <a:r>
              <a:rPr b="0" lang="sk-SK" sz="1800" spc="-1" strike="noStrike">
                <a:solidFill>
                  <a:srgbClr val="404040"/>
                </a:solidFill>
                <a:latin typeface="Arial"/>
                <a:ea typeface="Arial"/>
              </a:rPr>
              <a:t> atď.) ktoré v sorpčnom komplexe obsahujú veľa výmenného sodíku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800" spc="-1" strike="noStrike">
                <a:solidFill>
                  <a:srgbClr val="404040"/>
                </a:solidFill>
                <a:latin typeface="Arial"/>
                <a:ea typeface="Arial"/>
              </a:rPr>
              <a:t>Mierne alkalická reakcia býva podmienená obsahom ťažšie rozpustných karbonátov (kalcit, dolomit) V tomto prípade môže byť pH najviac 8,5.Je to tak preto, lebo v pôde sa vytvára zložitý systém karbonátov a bikarbonátov, v ktorom je disociácia podmienená obsahom CO</a:t>
            </a:r>
            <a:r>
              <a:rPr b="0" lang="sk-SK" sz="18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2</a:t>
            </a:r>
            <a:r>
              <a:rPr b="0" lang="sk-SK" sz="1800" spc="-1" strike="noStrike">
                <a:solidFill>
                  <a:srgbClr val="404040"/>
                </a:solidFill>
                <a:latin typeface="Arial"/>
                <a:ea typeface="Arial"/>
              </a:rPr>
              <a:t> v atmosfére. Pri tlaku a koncentrácii CO</a:t>
            </a:r>
            <a:r>
              <a:rPr b="0" lang="sk-SK" sz="18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2</a:t>
            </a:r>
            <a:r>
              <a:rPr b="0" lang="sk-SK" sz="1800" spc="-1" strike="noStrike">
                <a:solidFill>
                  <a:srgbClr val="404040"/>
                </a:solidFill>
                <a:latin typeface="Arial"/>
                <a:ea typeface="Arial"/>
              </a:rPr>
              <a:t>, ktorú v pôdach pozorujeme môže byť pH najviac 8,2 – 8,5. 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800" spc="-1" strike="noStrike">
                <a:solidFill>
                  <a:srgbClr val="404040"/>
                </a:solidFill>
                <a:latin typeface="Arial"/>
                <a:ea typeface="Arial"/>
              </a:rPr>
              <a:t>Neutrálnu reakciu: podmieňuje ešte nasýtený sorpčný komplex, prípadne nízky obsah CaCO</a:t>
            </a:r>
            <a:r>
              <a:rPr b="0" lang="sk-SK" sz="18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3</a:t>
            </a:r>
            <a:r>
              <a:rPr b="1" lang="sk-SK" sz="1800" spc="-1" strike="noStrike">
                <a:solidFill>
                  <a:srgbClr val="40404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3600" spc="-1" strike="noStrike">
                <a:solidFill>
                  <a:srgbClr val="262626"/>
                </a:solidFill>
                <a:latin typeface="Century Gothic"/>
              </a:rPr>
              <a:t>Kyslá reakcia (acidita)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1763640" y="1869840"/>
            <a:ext cx="677088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400" spc="-1" strike="noStrike">
                <a:solidFill>
                  <a:srgbClr val="404040"/>
                </a:solidFill>
                <a:latin typeface="Arial"/>
                <a:ea typeface="Arial"/>
              </a:rPr>
              <a:t>Ukazuje, že pôda neobsahuje karbonáty, že sorpčný komplex je nenasýtený (klesá pod 50 – 60%), katióny vápnika a horčíka boli vymenené za vodík a  hliník. H</a:t>
            </a:r>
            <a:r>
              <a:rPr b="0" lang="sk-SK" sz="1400" spc="-1" strike="noStrike" baseline="30000">
                <a:solidFill>
                  <a:srgbClr val="404040"/>
                </a:solidFill>
                <a:latin typeface="Arial"/>
                <a:ea typeface="Arial"/>
              </a:rPr>
              <a:t>+</a:t>
            </a:r>
            <a:r>
              <a:rPr b="0" lang="sk-SK" sz="1400" spc="-1" strike="noStrike">
                <a:solidFill>
                  <a:srgbClr val="404040"/>
                </a:solidFill>
                <a:latin typeface="Arial"/>
                <a:ea typeface="Arial"/>
              </a:rPr>
              <a:t> ióny sa môžu uvoľňovať z minerálnych i organických kyselín, z kyslých solí Fe a Al i zo sorpčného komplexu. Ak je pH pod 4, možno predpokladať prítomnosť silných minerálnych kyselín v pôdnom roztoku (H</a:t>
            </a:r>
            <a:r>
              <a:rPr b="0" lang="sk-SK" sz="14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2</a:t>
            </a:r>
            <a:r>
              <a:rPr b="0" lang="sk-SK" sz="1400" spc="-1" strike="noStrike">
                <a:solidFill>
                  <a:srgbClr val="404040"/>
                </a:solidFill>
                <a:latin typeface="Arial"/>
                <a:ea typeface="Arial"/>
              </a:rPr>
              <a:t>SO</a:t>
            </a:r>
            <a:r>
              <a:rPr b="0" lang="sk-SK" sz="14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4</a:t>
            </a:r>
            <a:r>
              <a:rPr b="0" lang="sk-SK" sz="1400" spc="-1" strike="noStrike">
                <a:solidFill>
                  <a:srgbClr val="404040"/>
                </a:solidFill>
                <a:latin typeface="Arial"/>
                <a:ea typeface="Arial"/>
              </a:rPr>
              <a:t>). Humusové kyseliny môžu zvýšiť kyslosť až na pH 3,6. Nenasýtený komplex a účinok solí Al alebo Fe sa prejavuje medzi pH 3,6 – 5 (AlCl</a:t>
            </a:r>
            <a:r>
              <a:rPr b="0" lang="sk-SK" sz="14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3</a:t>
            </a:r>
            <a:r>
              <a:rPr b="0" lang="sk-SK" sz="1400" spc="-1" strike="noStrike">
                <a:solidFill>
                  <a:srgbClr val="404040"/>
                </a:solidFill>
                <a:latin typeface="Arial"/>
                <a:ea typeface="Arial"/>
              </a:rPr>
              <a:t> a FeCl</a:t>
            </a:r>
            <a:r>
              <a:rPr b="0" lang="sk-SK" sz="14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3</a:t>
            </a:r>
            <a:r>
              <a:rPr b="0" lang="sk-SK" sz="1400" spc="-1" strike="noStrike">
                <a:solidFill>
                  <a:srgbClr val="404040"/>
                </a:solidFill>
                <a:latin typeface="Arial"/>
                <a:ea typeface="Arial"/>
              </a:rPr>
              <a:t> sa môžu hydrolytický štiepiť a uvoľňovať kyseliny)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404040"/>
                </a:solidFill>
                <a:latin typeface="Arial"/>
                <a:ea typeface="Arial"/>
              </a:rPr>
              <a:t>Zvýšená kyslosť pôdy znižuje rozpustnosť mnohých látok (napr. zlúčenín Ca, Mg, K, Na a iné), niekedy až pod nevyhnutné životné minimum rastlín. Využiteľnosť kyseliny fosforečnej je optimálna pri pH pôdy od 6,5 do 7,5.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404040"/>
                </a:solidFill>
                <a:latin typeface="Arial"/>
                <a:ea typeface="Arial"/>
              </a:rPr>
              <a:t>Kyslosť pôdy zhoršuje aj životné podmienky pre pôdné organizmy. Väčšina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cs-CZ" sz="1400" spc="-1" strike="noStrike">
                <a:solidFill>
                  <a:srgbClr val="404040"/>
                </a:solidFill>
                <a:latin typeface="Arial"/>
                <a:ea typeface="Arial"/>
              </a:rPr>
              <a:t>z nich potrebuje pre svoj rozvoj neutrálne prostredie.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404040"/>
                </a:solidFill>
                <a:latin typeface="Arial"/>
                <a:ea typeface="Arial"/>
              </a:rPr>
              <a:t>Na väčšine územia SR prevláda kyslá, slabo kyslá až neutrálna pôdna reakcia (od pH 4,5 do 7,3) i keď sa kyslosť pôdy vplyvom znečisťovania prostredia (najmä oxidom siričitým) na mnohých miestach značne zvýšila. Nepriaznivý vývoj v acidifikácii pôd má za následok, že asi 700 000 ha poľnohospodárskych pôd vykazuje reakciu pod pH 5,5. Okrem toho silno kyslá pôdna reakcia sa zaznamenava v najvyšších polohách – do pH 4,5. V Podunajskej nížine prevláda silno zásaditá pôdna reakcia – nad pH 7,3. 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3600" spc="-1" strike="noStrike">
                <a:solidFill>
                  <a:srgbClr val="262626"/>
                </a:solidFill>
                <a:latin typeface="Century Gothic"/>
              </a:rPr>
              <a:t>Metódy určovania pôdnej reakci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1942920" y="2133360"/>
            <a:ext cx="673236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400" spc="-1" strike="noStrike">
                <a:solidFill>
                  <a:srgbClr val="404040"/>
                </a:solidFill>
                <a:latin typeface="Arial"/>
                <a:ea typeface="Arial"/>
              </a:rPr>
              <a:t>Reakciu určujeme v pôdnych suspenziách a výluhoch rôznymi metódami, podobne ako v chémii ( kolorimetricky, elektrometricky rôznymi elektródami, titračne atď.). Pomocou sklenenej elektródy môžeme merať pH v pôdnom ceste, teda priamo v rozmiešanej vlhkej zemine. Hodnoty pH kolíšu podľa toho, či sa meria pH vzorky čerstvej alebo vysušenej, ak meriame pH suspenzie alebo výluhu, záleží tiež na tom, v akom pomere je vylúhovadlo v zemine. Pri hodnotách reakcie treba preto vždy uviesť, v akých vzorkách sa pH zisťovalo. Podľa konvencie pri zisťovaní pH pôd, sa pripraví suspenzia v pomere zemina : destilovaná voda (alebo roztok solí) = 1 : 2,5. Pri zrašelinených zeminách sa pomer zvýši na 1 : 5, pri rašelinách na 1 : 10  </a:t>
            </a:r>
            <a:r>
              <a:rPr b="0" lang="sk-SK" sz="2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404040"/>
                </a:solidFill>
                <a:latin typeface="Arial"/>
                <a:ea typeface="Arial"/>
              </a:rPr>
              <a:t>  </a:t>
            </a:r>
            <a:br>
              <a:rPr sz="1400"/>
            </a:b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2000" spc="-1" strike="noStrike">
                <a:solidFill>
                  <a:srgbClr val="262626"/>
                </a:solidFill>
                <a:latin typeface="Century Gothic"/>
              </a:rPr>
              <a:t>Graf č. 1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800" spc="-1" strike="noStrike">
                <a:solidFill>
                  <a:srgbClr val="404040"/>
                </a:solidFill>
                <a:latin typeface="Century Gothic"/>
              </a:rPr>
              <a:t>Pôdne reakcie (pH) vo vybraných lokalitách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2" name="Picture 4" descr="obr47_01"/>
          <p:cNvPicPr/>
          <p:nvPr/>
        </p:nvPicPr>
        <p:blipFill>
          <a:blip r:embed="rId1"/>
          <a:stretch/>
        </p:blipFill>
        <p:spPr>
          <a:xfrm>
            <a:off x="971640" y="2421000"/>
            <a:ext cx="69850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3600" spc="-1" strike="noStrike">
                <a:solidFill>
                  <a:srgbClr val="262626"/>
                </a:solidFill>
                <a:latin typeface="Century Gothic"/>
              </a:rPr>
              <a:t>Zakysľovanie pôd a jeho tlmeni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1942920" y="1773360"/>
            <a:ext cx="666108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400" spc="-1" strike="noStrike">
                <a:solidFill>
                  <a:srgbClr val="404040"/>
                </a:solidFill>
                <a:latin typeface="Arial"/>
                <a:ea typeface="Arial"/>
              </a:rPr>
              <a:t>Väčšina našich pôd je kyslá, správa sa ako kyselina. Ak do pôdnej suspenzie pridávame hydroxidy (NaOH, Ca(OH</a:t>
            </a:r>
            <a:r>
              <a:rPr b="0" lang="sk-SK" sz="14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2</a:t>
            </a:r>
            <a:r>
              <a:rPr b="0" lang="sk-SK" sz="1400" spc="-1" strike="noStrike">
                <a:solidFill>
                  <a:srgbClr val="404040"/>
                </a:solidFill>
                <a:latin typeface="Arial"/>
                <a:ea typeface="Arial"/>
              </a:rPr>
              <a:t>)), viažu sa bázy z nich na povrchu pôdnych častíc a do roztoku prechodia H, Al, Fe, Mn – ióny a tu sa viažu na hydroxidy. Všeobecne však skoro všetky pôdy u nás sú vystavené postupnému zakysľovaniu, lebo sú v humídnych oblastiach a sú teda premývané slabou kyselinou uhličitou. Tento proces zakysľovania sa realizuje za prirodzenej situácie v rámci tisícročí až desaťtisícročí. Pod vplyvom človeka, napr. emisiami, sa môže urýchliť. Ako zdroje protónov (H-iónov) v pôde môžeme uvažovať: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400" spc="-1" strike="noStrike">
                <a:solidFill>
                  <a:srgbClr val="404040"/>
                </a:solidFill>
                <a:latin typeface="Arial"/>
                <a:ea typeface="Arial"/>
              </a:rPr>
              <a:t>a) Kyselinu uhličitú: tvoriacu sa pri dýchaní koreňov a mikrobiálnej činnosti. Roztok pôdy, ktorý je v rovnováhe so vzduchom obsahujúcim 1% CO</a:t>
            </a:r>
            <a:r>
              <a:rPr b="0" lang="sk-SK" sz="14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2</a:t>
            </a:r>
            <a:r>
              <a:rPr b="0" lang="sk-SK" sz="1400" spc="-1" strike="noStrike">
                <a:solidFill>
                  <a:srgbClr val="404040"/>
                </a:solidFill>
                <a:latin typeface="Arial"/>
                <a:ea typeface="Arial"/>
              </a:rPr>
              <a:t> má pH 5,4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400" spc="-1" strike="noStrike">
                <a:solidFill>
                  <a:srgbClr val="404040"/>
                </a:solidFill>
                <a:latin typeface="Arial"/>
                <a:ea typeface="Arial"/>
              </a:rPr>
              <a:t>b) Pri oxidačných reakciách: na ktorých sa zúčastňujú zlúčeniny Fe, Mn, S vznikajú H</a:t>
            </a:r>
            <a:r>
              <a:rPr b="0" lang="sk-SK" sz="1400" spc="-1" strike="noStrike" baseline="30000">
                <a:solidFill>
                  <a:srgbClr val="404040"/>
                </a:solidFill>
                <a:latin typeface="Arial"/>
                <a:ea typeface="Arial"/>
              </a:rPr>
              <a:t>-</a:t>
            </a:r>
            <a:r>
              <a:rPr b="0" lang="sk-SK" sz="1400" spc="-1" strike="noStrike">
                <a:solidFill>
                  <a:srgbClr val="404040"/>
                </a:solidFill>
                <a:latin typeface="Arial"/>
                <a:ea typeface="Arial"/>
              </a:rPr>
              <a:t> ióny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400" spc="-1" strike="noStrike">
                <a:solidFill>
                  <a:srgbClr val="404040"/>
                </a:solidFill>
                <a:latin typeface="Arial"/>
                <a:ea typeface="Arial"/>
              </a:rPr>
              <a:t>c) Pri nitrifikácii: tvoria sa tiež H</a:t>
            </a:r>
            <a:r>
              <a:rPr b="0" lang="sk-SK" sz="1400" spc="-1" strike="noStrike" baseline="30000">
                <a:solidFill>
                  <a:srgbClr val="404040"/>
                </a:solidFill>
                <a:latin typeface="Arial"/>
                <a:ea typeface="Arial"/>
              </a:rPr>
              <a:t>-</a:t>
            </a:r>
            <a:r>
              <a:rPr b="0" lang="sk-SK" sz="1400" spc="-1" strike="noStrike">
                <a:solidFill>
                  <a:srgbClr val="404040"/>
                </a:solidFill>
                <a:latin typeface="Arial"/>
                <a:ea typeface="Arial"/>
              </a:rPr>
              <a:t>ióny a tvorbe 14 kg dusíka odpovedá 1 kg vodíka.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400" spc="-1" strike="noStrike">
                <a:solidFill>
                  <a:srgbClr val="404040"/>
                </a:solidFill>
                <a:latin typeface="Arial"/>
                <a:ea typeface="Arial"/>
              </a:rPr>
              <a:t>d) V dôsledku použitia niektorých hnojív sa tiež tvoria kyslé produkty. Napr. pri hnojení močovinou, môže jej mikrobialnou premenou vznikať kyselina dusičná. Pri hnojení síranom amónnym sa amóniové ióny prednostne spotrebujú a uvoľní sa kyselina sírová.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400" spc="-1" strike="noStrike">
                <a:solidFill>
                  <a:srgbClr val="404040"/>
                </a:solidFill>
                <a:latin typeface="Arial"/>
                <a:ea typeface="Arial"/>
              </a:rPr>
              <a:t>e) exhalátmi sa dostáva do ovzdušia a z neho tzv. suchým i mokrým spadom do pôdy veľa kyslých zlúčenín síry a dusíka. Môže to byť, až niekoľko kilomolov H</a:t>
            </a:r>
            <a:r>
              <a:rPr b="0" lang="sk-SK" sz="1400" spc="-1" strike="noStrike" baseline="30000">
                <a:solidFill>
                  <a:srgbClr val="404040"/>
                </a:solidFill>
                <a:latin typeface="Arial"/>
                <a:ea typeface="Arial"/>
              </a:rPr>
              <a:t>+</a:t>
            </a:r>
            <a:r>
              <a:rPr b="0" lang="sk-SK" sz="1400" spc="-1" strike="noStrike">
                <a:solidFill>
                  <a:srgbClr val="404040"/>
                </a:solidFill>
                <a:latin typeface="Arial"/>
                <a:ea typeface="Arial"/>
              </a:rPr>
              <a:t> na hektár za rok.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21:27:01Z</dcterms:created>
  <dc:creator>Tokar Rudolf</dc:creator>
  <dc:description/>
  <dc:language>en-US</dc:language>
  <cp:lastModifiedBy>PC</cp:lastModifiedBy>
  <dcterms:modified xsi:type="dcterms:W3CDTF">2023-02-28T11:07:49Z</dcterms:modified>
  <cp:revision>16</cp:revision>
  <dc:subject/>
  <dc:title>pH pôd, reakcia pôdy</dc:title>
</cp:coreProperties>
</file>