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F4DD-4DC4-4605-8114-C45799D0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8AE4-8D89-4E3E-B0D6-3C11FAF0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86CD6-4B03-47E5-B78F-D3C52CDF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4BBFD-75D4-41EC-A543-A898FCA9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1D9C7-875F-4B03-A0A4-F6C6F465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FFD8A-DA04-4BAD-8206-8C2C1BB6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4A219-A21E-479D-8E6B-173693C8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E5CAB-B8C2-4E80-A02C-A2A30FE1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C7371-7B24-4A53-9EE5-E46F2015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6508E-3411-44EE-A68E-0B66BC54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A10C5-75D5-42FC-9E75-F81A276B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79A66-8414-49B8-9D4E-E010D818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9449-DD93-4E7B-B52D-78DAAA7C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A81C6-5104-44CC-A7CC-97279FD3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72666-92FB-429A-958B-75222E03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BD7FA-DF2B-4003-81AC-E3828DCC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BEBB6-A7B8-4C75-A034-5F3B45AB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015F4-9329-4C81-A1E9-78C8486B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B6EAE-59BE-4B53-B368-B4D5457A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CD610-1507-4805-A07F-2F0F4053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F860D-7916-494E-BDBB-226C78D5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8750E-671D-4388-8332-204913B8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F0487-934A-43A8-862B-3609421E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82B9-2915-4522-9E0B-CC3AA7F2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AD861-06EF-46BD-A9BB-DA5576F5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7A2BC-D8B1-43CB-A376-480D6519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9DE87-44FD-4757-81BE-2B6798E0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D8631-1A9E-4508-99E3-D8A713CF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D1207-0DF8-47F9-A05C-A84B4748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A7757-4706-4FED-B004-669DFA72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920C7-5BCC-4BC7-AFEB-5CD1C528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16161-CC9D-454A-9A13-FA5E178F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018AB-A420-4225-8707-FAF00BFA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3654A-088F-404D-AD74-4FEB88D0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B9B5-9322-4086-8E57-3F52167A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9B019-3A02-4CCF-9ED5-45A886E9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798A6-CA5F-412E-A4C5-F53FD42C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B5675-060A-46C6-8765-CDE27294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7ACEA-831C-4351-923B-528D64D1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DF4C3-DA55-4BC3-A9C0-1920C6F3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B74AE-4485-42F7-90F4-6B5ACFDD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8D730-32D9-44C4-B61F-831A3E50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1FCE5-1B0C-4CCE-A360-A89A11DB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B2C74-F3AF-46A4-A9FD-65656CC1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70509-7D1E-46E9-9745-B503E5C9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DB86-B638-4543-BCA8-BBD85B9C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5C8EE-CC11-4D06-8D64-5CF51C0C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008A4-A09C-4D87-A34B-7F77A493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AEBD3-7D3E-478E-86D7-B0EB914C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EFB94-4F52-4688-AA18-3A25CE3E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A0E7A-2948-41E9-AB46-290AF52E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FA9055-24E8-47D6-9D1B-22BF0A65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529AC1-CA5F-4D79-ACEA-F3711BDC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53E95B-0B45-4EB4-802C-FE4B0518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177324-CDE0-4CBF-A0B7-2A3C9C40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1340D8-B9CE-4385-8F2B-3CE7FFFA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0309-1FE2-413E-95FC-D9D04F53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BD3D4C-E77D-440B-B669-C5F0BAEF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B65A5C-9F96-4A6F-A12D-75447EA8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C0AED0-CECD-4867-B1BE-FBB4A751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E2647D-74B9-4178-BE6D-343C224E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05ACAC-68AD-418C-8DAC-6D225271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82C641-5159-4BBB-B06E-757B25A0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A396A8-D2F0-446A-8EF7-CA608F18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C55B18-702A-4968-ACED-6E4C54DB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9E5D92-6E80-4ACD-BB5C-647F29DB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3F83B1-2BC0-4337-B983-9A09E88A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587F-4B83-4C0A-8A9E-3ACD0FBD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FCC6D6-9BF0-46FB-9291-0B166BC4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957ECA-4467-44DB-98DA-0E3F8325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8C7591-5EEB-458E-B100-7ACE2647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EF14CF-951D-4F1B-8C39-DFB840A9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BAE894-7F21-430F-BB0D-0E54997E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71E51F-2573-4EEE-A6B8-3E354ABA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24FB99-7AED-47FA-A057-29BE9126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B69476-834B-45F4-ACBB-37930C2E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290686-8F9A-4975-8DD2-C9AEFB81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738C48-9C60-48D3-9B60-30980250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FCB2-68DF-4C61-8A0E-DF335840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5C949B-E313-49EC-A33C-504F69FF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30003F-CC18-40ED-9DEA-D0C345D8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612684-9DDB-4B67-90A8-0479EEC8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C2E701-DC26-47A3-8FFF-7AFC6D7D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4E18B7-2FAD-40A1-BF6C-AED2DD8D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B939CE-8C00-4272-9058-07117457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7D7D71-2791-4EF0-99AD-3CBABB6D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1B13B5-F526-4143-A5EC-1109624C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24747B-596F-4295-876B-46F8CBF9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846F1D-8B2F-4724-B62D-692A3DEF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CDEB-7C72-4E25-BA92-E64E3D04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FA3AC5-8565-413B-9298-FF584243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A3DC82-479C-40AC-B6B7-5FF7C023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979EDF-2BAA-4D2C-AA91-2068E5D3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7758FD-E306-409E-AEE2-2CDBAED7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9234D6-A33D-4961-B86D-64E23986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7E2DA1-E973-41AC-8EE4-B881F7E1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3D8343-9788-40BB-A643-0C121B5D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5F6CFE-E5F4-4BA4-B151-A42998DB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58EE74-7EA5-46F4-A0C1-8A787839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06E4AB-8298-4AEA-BA1F-0A180F09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315E-27A0-41D0-A241-B5BE3B1F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6C88BB-F504-4D35-ADFD-E9768C16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4C6958-7621-4AAE-8202-569D9B74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D53627-B5E8-402C-AFD6-C405A8AD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656087-2DC8-47E5-A997-7A966776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ADB570-DB76-49BE-A723-5EF83537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5E65EF-DBD0-481B-82C4-891F6C08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4E4D66-5070-4E9E-88E1-3BADD12D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EAF119-BC07-4CEC-A0BE-B5F9643F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34036F-83CA-4D68-8258-B28BEE41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3A1946-454B-4BB1-8DF8-C05504D8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3684-E8B3-4ECC-979C-B1A954A1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AB7A-FC84-40EF-8E92-D107EC98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ECF7DE-5688-4B2B-AAB1-00358601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782276-7AB4-458A-96EB-6E5476AB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04992E-5040-4C62-9FBB-3954A5AF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1AD023-C10B-4C2D-A277-DC30B58B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87B717-404D-4C15-8059-7219ED71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216C-7CD7-4E15-80F3-A5FE0C8A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2485-E5D5-49F2-BD58-8EA6FA1B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8CA5-5099-4580-9025-628B09DD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9083-E2F6-4F57-B66E-282A9319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9819D-A2D0-4F72-ABED-DCA76F78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F8A56-2946-4BA9-8300-36C4A849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E4AC3-8603-4965-A3F8-CB0547E8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224E7-3E82-41CB-93CE-1659E513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B872D-4938-41FF-80ED-98FCA5D4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55DE-2DDC-43CF-B3A3-2CC30BBE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2ADEF-0534-4C61-9302-FA3EE4CD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87DE3-50FA-425B-BE4B-0655C4E1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DA7A7-C96A-4891-B2C9-B49B1FAC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F5D00-EE41-4E96-AABA-1F530679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0A375-182D-4527-8E35-6B8F61A0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B83E6-B3A7-47F7-A347-AF0EAF4B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5786B-AA45-4AF8-945C-BD190D2F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02CC4-1DF2-4BE3-A6CB-7D622740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016D4-57CD-4C56-B459-7F97E915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5FDFF-0F8A-46E2-812D-25655777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5A7B-1A53-4036-8591-EBFF0F44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712E2-9906-4443-B5B1-DD94E262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597BD-DEBA-4590-B808-F067D1F8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36578-48C4-41C8-ABAD-12B19AC4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CAD10-C8C0-44F5-88E7-1E380DB9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DE3C6-5176-40A6-AE04-436ACF59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6FAB3-E926-4774-966C-C2D99CBF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18348-3CA7-4C65-B055-10BCE457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393E6-3334-487D-9346-986EABC8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AC81A-BA46-4112-9785-D726EEDC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3BAA9-EC0B-4B84-8ABB-0B1662EB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B14A-0F0F-46F9-A18D-3B660DE0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422BF-7691-416A-A671-31862BC3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F6136-7FEC-4FDB-89ED-4561D650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ACA81-DE6B-41F6-AC61-0A058B70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612D3-CFA0-4161-BE44-A6900FF5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10562-D1BB-49CC-B489-89976960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6C82F-EB23-44DC-989A-4DE84287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40667-DCE1-47EE-A131-8DBD1CFB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AB086-6919-402D-952B-E11D5376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5B639-5C90-4E82-A70A-8B1F2702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2C868-C3DC-4B52-B195-689B3EF1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4A51-390D-4C62-B5C0-4BCDEA85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1160E-FA6F-4895-9103-E6E2F83E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871D8-83C2-47E8-9228-2B63109D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18470-3FFA-46BB-B49F-4FCF74B5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3D140-3C16-45D4-9175-CA2430FA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19C58-2F54-45F7-964C-AFBE50AE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CA600-9765-4A2D-9452-9BFC3274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B823D-A714-4CEA-AC1A-F517F5CB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3AB46-5F77-4656-A73C-53821578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C1D0E-84B0-4DE6-8999-7472B524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BB691-69F8-4A4A-9408-D0954F72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3C8C-1B91-4537-AA9D-F418D876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B3BBC-979D-41B6-8212-8C8C6D48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A46B4-68DA-44C9-8AF6-4896B7CA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00E7D-3397-444F-834E-16BC04E3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3EF86-97D5-46C8-980B-1F58819C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42110-D632-423D-8ABA-C42CE438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A63D4-8A3A-4843-BAB2-C4ED4D43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AE4B4-5D6F-4DD3-AA3A-5D796DE5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219B8-8107-4792-BB2F-842057E5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E4C08-7BF5-48E1-9929-B2B8161A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7F01F-1048-40EE-85A6-B91BE126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8988-AEA0-44D3-8461-F499779F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5F0BD-414B-43E4-BBF7-617353CA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E1150-F362-4823-9AA8-686B84FA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13B10-04A3-4C7F-A955-1082E780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79BF5-14D1-443C-90BE-871D9AE7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C770B-A03E-4FF3-86F2-50E3DF67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8DD11-7FF5-42DF-BFE0-891D542E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F71B0-AB8F-4DB9-B94F-CFDC0933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8DE44-B773-404E-A4E6-DB32977C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C6821-E254-4D6E-8A1B-366969D7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E03D7-C856-4B1E-9AD9-EFC7E9E0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B86E-D590-4336-A7A0-82ED72BD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22DB4-0AF5-4C59-994E-97D521A2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DBFA8-991B-4B6A-ACB4-ACB201D9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B5B19-2938-4B1F-9797-BD492E27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D61CE-C228-4E12-9D4C-4310AA5E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DB79D-26FE-4716-B6E3-98DE0BC0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0A95F-1D54-4825-8EED-47D4065C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20889-F284-4C8F-B6C7-679BD351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91051-922E-4666-A3A3-1FC8C672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73430-5B32-4EA1-A568-D1DF5945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44B8F-A9B2-4501-8796-316D9F47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C26E-FBB4-4ACA-816E-CF696727EAE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6E91-038D-4574-B723-FEA73D3676B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842C-8ABA-4985-A5E2-C4244BDF2C9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3477-13AF-4F71-ADDA-073FD7295E3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2F0F-8DAE-4E0C-849F-B9D0A0DDB01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BE85-1956-4A16-B4AB-D20BDD66F4E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B323-8740-4FA1-A0D2-3889897165B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E18E-FB4F-4BAA-A436-FD9CED3EEF3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C202-4ED6-4F3F-8C39-2BBB215AC2A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2E50-9CBD-46BC-ADBC-D4BFB06E067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14C3-C7DF-48DE-81D3-60D87C72529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1BA9-82BF-4720-8EFD-61D1977B093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5CB8-EB1D-48CA-AC56-3576243F3C2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F0D3-6397-4A1B-9D1B-028F68DB447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F0F0-8001-4C36-88F4-0A282E2CE09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4750-ABE7-4FE8-8B2F-48E4C09E408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2210-50B3-4ABA-A3E4-4D312FD5CA5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10920" y="-819000"/>
            <a:ext cx="7918200" cy="31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262626"/>
                </a:solidFill>
                <a:latin typeface="Century Gothic"/>
              </a:rPr>
              <a:t>Univerzita P.J. Šafárika, Prírodovedecká fakulta v Košiciach </a:t>
            </a:r>
            <a:br>
              <a:rPr sz="1800"/>
            </a:br>
            <a:r>
              <a:rPr b="0" lang="sk-SK" sz="1800" spc="-1" strike="noStrike">
                <a:solidFill>
                  <a:srgbClr val="262626"/>
                </a:solidFill>
                <a:latin typeface="Century Gothic"/>
              </a:rPr>
              <a:t>Ústav geografie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1332000" y="2852640"/>
            <a:ext cx="6440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2400" spc="-1" strike="noStrike">
                <a:solidFill>
                  <a:srgbClr val="595959"/>
                </a:solidFill>
                <a:latin typeface="Century Gothic"/>
              </a:rPr>
              <a:t>Pôdny vzduch a humu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400" spc="-1" strike="noStrike">
                <a:solidFill>
                  <a:srgbClr val="595959"/>
                </a:solidFill>
                <a:latin typeface="Century Gothic"/>
              </a:rPr>
              <a:t>Nina Henzelyová 2Gb</a:t>
            </a:r>
            <a:r>
              <a:rPr b="0" lang="sk-SK" sz="1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sk-SK" sz="400" spc="-1" strike="noStrike">
                <a:solidFill>
                  <a:srgbClr val="595959"/>
                </a:solidFill>
                <a:latin typeface="Century Gothic"/>
              </a:rPr>
              <a:t>2007/2008</a:t>
            </a:r>
            <a:endParaRPr b="0" lang="en-US" sz="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 txBox="1"/>
          <p:nvPr/>
        </p:nvSpPr>
        <p:spPr>
          <a:xfrm>
            <a:off x="1547640" y="189000"/>
            <a:ext cx="659160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5.1 Zloženie humusu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236520" indent="-236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Humus tvoria dve skupiny organických látok :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236520" indent="-236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nešpecifické humusové látky</a:t>
            </a:r>
            <a:r>
              <a:rPr b="0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, napr. cukry, bielkoviny, lignín, mastné kyseliny, alkoholy, étery, aldehydy a iné, nachádzajúce sa v rastlinných aj živočíšnych zvyškoch, v produktoch mikrobiálnej resyntézy, ako ja v medziproduktoch rozkladu, ich zastúpenie nie je veľké- do 15 %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236520" indent="-236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špecifické humusové látky</a:t>
            </a:r>
            <a:r>
              <a:rPr b="0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, predstavujú podstatnú časť "pravého- vlastného " humusu- 85-90 %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236520" indent="-236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Základné skupiny humusových látok :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236520" indent="-236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humínové kyselin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236520" indent="-236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fulvokyselin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236520" indent="-236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humín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236520" indent="-236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5.2 Vlastnosti humusu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236520" indent="-236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Kvalitatívne a kvantitatívne ukazovatele humusu a humusového režimu pôd sú zásoby humusu a jeho kvalita. Obsah humusu v pôde a jeho zloženie úzko súvisia s pôdnym typom, zrnitostným zložením a stupňom skultúrnenia.Pre každý typ pôdy je typickáurčitá zásoba humusu špecifického zloženia a rozmiestnenia v profile pôdy.Vplyvom určitého systému obrábania,pestovania rastlín, požívania priemyselných hnojiív a erózie sa mení obsah humusu a jeho kvalitatívne zloženie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 txBox="1"/>
          <p:nvPr/>
        </p:nvSpPr>
        <p:spPr>
          <a:xfrm>
            <a:off x="1763640" y="404640"/>
            <a:ext cx="66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Podľa celkového obsahu humusu rozlišujeme pôdy 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slabo humózne s obsahom Hm menej ako 1 %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mierne humózne s obsahom 1-2 %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stredne humózne s obsahom 2-3 %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silne humózne s obsahom Hm 3-5 %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veľmi silne humózne s obsahom Hm nad 5 %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Kvalita humusu sa obyčajne posudzuje podľa obsahu uhlíka humínových kyselín (C)a fulvokyselín,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prípadne podľa pomeru C: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 txBox="1"/>
          <p:nvPr/>
        </p:nvSpPr>
        <p:spPr>
          <a:xfrm>
            <a:off x="1834920" y="549360"/>
            <a:ext cx="6624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5.3 Funkcia humusu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Humusové látky a ich komplexy majú mnohostranný vplyv na pôdnu úrodnosť. Výrazne pôsobia na zmeny v mineralogickom, chemickom a čiastočne i v zrnitostnom zložení substrátov a pôd. Formovanie pôdneho profilu úzko súvisí s obsahom humusu a jeho skladbou. Humusové horizonty vznikajú v priaznivých podmienkach humifikácie s prevládajúcou tvorbou humínových kyselín. Eluviovanie a iluviovanie obyčajne súvisí s účinnosťou fulvokyselín a nízkomolekulových zlúčenín na rozklad a migráciu minerálnych zložiek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Dôležitú úlohu majú humusové látky tiež pri detoxikácii pesticídov. Ich absorpčný účinok závisí od množstva, vyzretia, absorpčnej kapacity a aktivity povrchových zložiek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 txBox="1"/>
          <p:nvPr/>
        </p:nvSpPr>
        <p:spPr>
          <a:xfrm>
            <a:off x="1115640" y="836640"/>
            <a:ext cx="7993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500" spc="-1" strike="noStrike">
                <a:solidFill>
                  <a:srgbClr val="404040"/>
                </a:solidFill>
                <a:latin typeface="Century Gothic"/>
              </a:rPr>
              <a:t>Všeobecná charakteristika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500" spc="-1" strike="noStrike">
                <a:solidFill>
                  <a:srgbClr val="404040"/>
                </a:solidFill>
                <a:latin typeface="Arial"/>
                <a:ea typeface="Arial"/>
              </a:rPr>
              <a:t>Nakoľko pôda predstavuje kyprý porézny prírodný útvar,všetky voľné priestory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500" spc="-1" strike="noStrike">
                <a:solidFill>
                  <a:srgbClr val="404040"/>
                </a:solidFill>
                <a:latin typeface="Arial"/>
                <a:ea typeface="Arial"/>
              </a:rPr>
              <a:t>pôdnych pórov, ktoré nezaplnila voda, vyplňuje ich pôdny vzduch, ktorý je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500" spc="-1" strike="noStrike">
                <a:solidFill>
                  <a:srgbClr val="404040"/>
                </a:solidFill>
                <a:latin typeface="Arial"/>
                <a:ea typeface="Arial"/>
              </a:rPr>
              <a:t>stálou a veľmi dôležitou súčasťou pôdy. Pôdne plyny sú v podstate atmosférický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500" spc="-1" strike="noStrike">
                <a:solidFill>
                  <a:srgbClr val="404040"/>
                </a:solidFill>
                <a:latin typeface="Arial"/>
                <a:ea typeface="Arial"/>
              </a:rPr>
              <a:t>vzduch, ktorý vnikol do pôdy a tu sa čiastočne pozmenil. Obyčajne zostáva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500" spc="-1" strike="noStrike">
                <a:solidFill>
                  <a:srgbClr val="404040"/>
                </a:solidFill>
                <a:latin typeface="Arial"/>
                <a:ea typeface="Arial"/>
              </a:rPr>
              <a:t>spojený s atmosférou, dostáva sa do pôdy z atmosféry pôsobením teploty,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500" spc="-1" strike="noStrike">
                <a:solidFill>
                  <a:srgbClr val="404040"/>
                </a:solidFill>
                <a:latin typeface="Arial"/>
                <a:ea typeface="Arial"/>
              </a:rPr>
              <a:t>pohybu vzduchu a barometrického tlaku. Medzi pôdou a atmosférou dochádza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500" spc="-1" strike="noStrike">
                <a:solidFill>
                  <a:srgbClr val="404040"/>
                </a:solidFill>
                <a:latin typeface="Arial"/>
                <a:ea typeface="Arial"/>
              </a:rPr>
              <a:t>k neustálej výmene plynov a príjem vzduchu do pôdy závisí od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500" spc="-1" strike="noStrike">
                <a:solidFill>
                  <a:srgbClr val="404040"/>
                </a:solidFill>
                <a:latin typeface="Arial"/>
                <a:ea typeface="Arial"/>
              </a:rPr>
              <a:t>pórovitosti, vlhkosti  a pohybu vody v pôde. Voda a vzduch sú vzájomnými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500" spc="-1" strike="noStrike">
                <a:solidFill>
                  <a:srgbClr val="404040"/>
                </a:solidFill>
                <a:latin typeface="Arial"/>
                <a:ea typeface="Arial"/>
              </a:rPr>
              <a:t>antagonistami, to znamená, že tam kde je vzduch nedostane sa  voda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500" spc="-1" strike="noStrike">
                <a:solidFill>
                  <a:srgbClr val="404040"/>
                </a:solidFill>
                <a:latin typeface="Arial"/>
                <a:ea typeface="Arial"/>
              </a:rPr>
              <a:t>a naopak .Tak ako rastliny nemôžu existovať bez vody, nemôžu existovať ani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500" spc="-1" strike="noStrike">
                <a:solidFill>
                  <a:srgbClr val="404040"/>
                </a:solidFill>
                <a:latin typeface="Arial"/>
                <a:ea typeface="Arial"/>
              </a:rPr>
              <a:t>bez vzduchu. Pôdny vzduch sa svojím kvalitatívnym i kvantitatívnym zložením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500" spc="-1" strike="noStrike">
                <a:solidFill>
                  <a:srgbClr val="404040"/>
                </a:solidFill>
                <a:latin typeface="Arial"/>
                <a:ea typeface="Arial"/>
              </a:rPr>
              <a:t>odlišuje od atmosférického vzduchu, ktorý prenikajúc do pôdy sa v nej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500" spc="-1" strike="noStrike">
                <a:solidFill>
                  <a:srgbClr val="404040"/>
                </a:solidFill>
                <a:latin typeface="Arial"/>
                <a:ea typeface="Arial"/>
              </a:rPr>
              <a:t>obohacuje plynnými produktami rozkladu organických látok ( CO</a:t>
            </a:r>
            <a:r>
              <a:rPr b="0" lang="sk-SK" sz="15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sk-SK" sz="1500" spc="-1" strike="noStrike">
                <a:solidFill>
                  <a:srgbClr val="404040"/>
                </a:solidFill>
                <a:latin typeface="Arial"/>
                <a:ea typeface="Arial"/>
              </a:rPr>
              <a:t>, NH</a:t>
            </a:r>
            <a:r>
              <a:rPr b="0" lang="sk-SK" sz="15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3</a:t>
            </a:r>
            <a:r>
              <a:rPr b="0" lang="sk-SK" sz="1500" spc="-1" strike="noStrike">
                <a:solidFill>
                  <a:srgbClr val="404040"/>
                </a:solidFill>
                <a:latin typeface="Arial"/>
                <a:ea typeface="Arial"/>
              </a:rPr>
              <a:t>, H</a:t>
            </a:r>
            <a:r>
              <a:rPr b="0" lang="sk-SK" sz="15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sk-SK" sz="1500" spc="-1" strike="noStrike">
                <a:solidFill>
                  <a:srgbClr val="404040"/>
                </a:solidFill>
                <a:latin typeface="Arial"/>
                <a:ea typeface="Arial"/>
              </a:rPr>
              <a:t>S, H</a:t>
            </a:r>
            <a:r>
              <a:rPr b="0" lang="sk-SK" sz="15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sk-SK" sz="1500" spc="-1" strike="noStrike">
                <a:solidFill>
                  <a:srgbClr val="404040"/>
                </a:solidFill>
                <a:latin typeface="Arial"/>
                <a:ea typeface="Arial"/>
              </a:rPr>
              <a:t> )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500" spc="-1" strike="noStrike">
                <a:solidFill>
                  <a:srgbClr val="404040"/>
                </a:solidFill>
                <a:latin typeface="Arial"/>
                <a:ea typeface="Arial"/>
              </a:rPr>
              <a:t>a vodnými parami, preto pôdny vzduch je spravidla bohatší na CO</a:t>
            </a:r>
            <a:r>
              <a:rPr b="0" lang="sk-SK" sz="15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sk-SK" sz="1500" spc="-1" strike="noStrike">
                <a:solidFill>
                  <a:srgbClr val="404040"/>
                </a:solidFill>
                <a:latin typeface="Arial"/>
                <a:ea typeface="Arial"/>
              </a:rPr>
              <a:t> i vodné pary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500" spc="-1" strike="noStrike">
                <a:solidFill>
                  <a:srgbClr val="404040"/>
                </a:solidFill>
                <a:latin typeface="Arial"/>
                <a:ea typeface="Arial"/>
              </a:rPr>
              <a:t>a chudobnejší na O</a:t>
            </a:r>
            <a:r>
              <a:rPr b="0" lang="sk-SK" sz="15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sk-SK" sz="1500" spc="-1" strike="noStrike">
                <a:solidFill>
                  <a:srgbClr val="404040"/>
                </a:solidFill>
                <a:latin typeface="Arial"/>
                <a:ea typeface="Arial"/>
              </a:rPr>
              <a:t>.Pôda je totiž oblasť, v ktorej sa kyslík viaže a súčasne sa uvoľňuje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500" spc="-1" strike="noStrike">
                <a:solidFill>
                  <a:srgbClr val="404040"/>
                </a:solidFill>
                <a:latin typeface="Arial"/>
                <a:ea typeface="Arial"/>
              </a:rPr>
              <a:t>oxid uhličitý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 txBox="1"/>
          <p:nvPr/>
        </p:nvSpPr>
        <p:spPr>
          <a:xfrm>
            <a:off x="539280" y="764640"/>
            <a:ext cx="7975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100" spc="-1" strike="noStrike">
                <a:solidFill>
                  <a:srgbClr val="404040"/>
                </a:solidFill>
                <a:latin typeface="Century Gothic"/>
              </a:rPr>
              <a:t>2</a:t>
            </a:r>
            <a:r>
              <a:rPr b="1" lang="sk-SK" sz="1400" spc="-1" strike="noStrike">
                <a:solidFill>
                  <a:srgbClr val="404040"/>
                </a:solidFill>
                <a:latin typeface="Century Gothic"/>
              </a:rPr>
              <a:t>. Zloženie 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Rozhodujúcu úlohu vo vzťahu k pôdotvornému procesu, vlastnostiam pôd a k rastlinám, zohrávajú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z plynných zložiek pôdneho vzduchu O</a:t>
            </a:r>
            <a:r>
              <a:rPr b="0" lang="sk-SK" sz="14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, CO</a:t>
            </a:r>
            <a:r>
              <a:rPr b="0" lang="sk-SK" sz="14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, N2.Z nich najaktívnejším plynom je kyslík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400" spc="-1" strike="noStrike">
                <a:solidFill>
                  <a:srgbClr val="404040"/>
                </a:solidFill>
                <a:latin typeface="Century Gothic"/>
              </a:rPr>
              <a:t>2.1 Kyslík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Obsah O2 v pôdnom vzduchu sa vyskytuje v rozpätí </a:t>
            </a:r>
            <a:r>
              <a:rPr b="1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10-20 %</a:t>
            </a: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, pričom v povrchových pôdnych vrstvách, prerastených spleťou koreňov, kolíše obsah kyslíka v pôdnom vzduchu obvykle v rozmedzí </a:t>
            </a:r>
            <a:r>
              <a:rPr b="1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18-20 %</a:t>
            </a: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.Menej ho býva len vtedy , ak je výmena plynov medzi pôdou a ovdzuším sťažená, napríklad v zamokrených lesných pôdach môže jeho obsah klesnúť až na </a:t>
            </a:r>
            <a:r>
              <a:rPr b="1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1%.</a:t>
            </a: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Zníženie množstva O v celkovom obsahu pôdneho vzduchu  v rozmedzí </a:t>
            </a:r>
            <a:r>
              <a:rPr b="1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10-15 % spôsobuje výrazne zníženie úrod</a:t>
            </a: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 a v nich i obsahu cukru, škrobu a popolovín. Pri znížení obsahu O na 6-9 % narušuje sa proces syntézy proteínov a znižuje sa na minimum množstvo prijímaných živín, začínajú sa rôzne redukčné procesy ako aj procesy hnilobné. Ak obsah klesne na 5 % korene prestanú rasť. Za najoptimálnejší obsah sa pokladá zastúpenie O v rozsahu 19- 21 %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Kyslík sa spotrebúva pri rôznych chemických a biochemických dejoch , na oxidáciu minerálnych a organických zlúčenín, pri dýchaní koreňov a bylinnej vegetácie. Spotrebúvavajú ho tiež všetky aerobné mikroorganizmy žijúce v pôde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Pri nedostatku O sa rozvíjajú procesy dentrifikácie a hromadia sa nežiadúce zlúčeniny a škodlivé plyny ako CH, HS a iné.Keďže v hlbších vrstvách je výmena s atmosférou ťažšia a pomalšia, množstvo kyslíka smerom do hĺbky klesá a množstvo CO stúpa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 txBox="1"/>
          <p:nvPr/>
        </p:nvSpPr>
        <p:spPr>
          <a:xfrm>
            <a:off x="684000" y="0"/>
            <a:ext cx="78865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284400" indent="-2844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Oxid uhličitý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284400" indent="-28440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Obsah CO v pôdnom vzduchu kolíše od 0,1-1,0 % v oráčine a v podorničí do 5 % i viac. Ako priemerné množstvo sa uvádza desaťnásobok obsahu v atmosfére, t.j. 0,3 %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284400" indent="-28440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Hlavným zdrojom vzniku CO2 v pôdnom vzduchu je rozkladajúca sa organická hmota, dýchanie mikroorganizmov, živočíšnych organizmov a koreňov rastlín v aeróbnych podmienkach. Pôdny vzduch je hlavným zásobovateľom i vzduchu atmosféry CO</a:t>
            </a:r>
            <a:r>
              <a:rPr b="0" lang="sk-SK" sz="14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, ktorý je nevyhnutný pri zásobovaní vyšších rastlín uhlíkom.CO</a:t>
            </a:r>
            <a:r>
              <a:rPr b="0" lang="sk-SK" sz="14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 sa ľahko rozpúšťa v pôdnej vode a vo forme vytvorenej slabej kyseliny uhličitej sa stáva účinným rozpúšťadlom, napomáhajúcim sprístupňovanie živín a taktiež je dôležitým regulátorom pôdnej reakcie. Zvýšenie koncentrácie CO</a:t>
            </a:r>
            <a:r>
              <a:rPr b="0" lang="sk-SK" sz="14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 v pôdnom vzduchu na 10-20 % pôsobí toxicky na rastlinný. Množstvo CO</a:t>
            </a:r>
            <a:r>
              <a:rPr b="0" lang="sk-SK" sz="14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 je menlivé, závisí od produkcie i od výmeny medzi pôdou a ovzduším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284400" indent="-28440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Čulou látkovou výmenou a teda vysokou produkciou CO</a:t>
            </a:r>
            <a:r>
              <a:rPr b="0" lang="sk-SK" sz="14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 sa vyznačujú pionierske dreviny ( breza, osika, smrekovec, borovica), najmenej ho vyprodukujú tieňomilné dreviny ( jedľa, buk, smrek).Stredné postavenie v tomto ohľade má lipa, javor, dub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284400" indent="-28440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Koncentrácia CO</a:t>
            </a:r>
            <a:r>
              <a:rPr b="0" lang="sk-SK" sz="14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 býva najvyššia na jar a na jeseň, niekedy i v lete (za dažďov).Vysoký obsah CO možno zistiť v nezakrytých pôdach, s kôrou na povrchu a v uľahnutých pôdach mestských parkov. Nakoľko CO</a:t>
            </a:r>
            <a:r>
              <a:rPr b="0" lang="sk-SK" sz="14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 je spojený s biologickou činnosťou pôdy, je považovaný za indikátor pôdnej aktivity (oživenia), podľa ktorej sa posudzuje i úrodnosť pôdy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"/>
          <p:cNvSpPr txBox="1"/>
          <p:nvPr/>
        </p:nvSpPr>
        <p:spPr>
          <a:xfrm>
            <a:off x="1763280" y="404640"/>
            <a:ext cx="6591240" cy="37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Dusík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Treťou zložkou pôdneho vzduchu je dusík, ktorého obsah sa obyčajne zhoduje s obsahom N v atmosfére (78 %) a málo sa mení.Uplatňuje sa predovšetkým ako biologický faktor.Je východiskom aj konečným výsledkom tvorby a premeny dusíkatých organických a minerálnych zlúčenín.NH je produktom aeróbneho rozkladu bielkovín za účasti amonizačných baktérií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2.4 Ostatné zložk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Obsah vodných pár v pôdnom vzduchu je blízky bodu nasýtenia za danej teploty, t.j. relatívna vlhkosť pôdneho vzduchu je blízka 100 %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V pôdnom vzduchu sa nachádza aj menlivé, prevažne však malé množstvo ďalších plynov- oxidov síry, dusíka, metánu, amoniaku a vzácnych plynov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 txBox="1"/>
          <p:nvPr/>
        </p:nvSpPr>
        <p:spPr>
          <a:xfrm>
            <a:off x="1692360" y="691920"/>
            <a:ext cx="69832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900" spc="-1" strike="noStrike">
                <a:solidFill>
                  <a:srgbClr val="404040"/>
                </a:solidFill>
                <a:latin typeface="Century Gothic"/>
              </a:rPr>
              <a:t>Vlastnosti pôdneho vzduchu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Celkovú schopnosť pôdy pútať a udržiavať vzduch v póroch  vyjadruje </a:t>
            </a:r>
            <a:r>
              <a:rPr b="1" i="1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vzdušná kapacita pôdy.</a:t>
            </a:r>
            <a:r>
              <a:rPr b="0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V rámci nej treba rozlišovať </a:t>
            </a:r>
            <a:r>
              <a:rPr b="1" i="1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prevdzušnenosť, vzdušnú kapacitu </a:t>
            </a:r>
            <a:r>
              <a:rPr b="0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a </a:t>
            </a:r>
            <a:r>
              <a:rPr b="1" i="1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minimálnu vzdušnú kapacitu</a:t>
            </a:r>
            <a:r>
              <a:rPr b="0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, ktorá vyjadruje množstvo vzduchu (10 %) potrebné pre rastliny, mikroorganizmy a oxidáciu organických a minerálnych zlúčenín. Hranica 6 % je hranicou tzv. minimálnej fyziologickej vzdušnosti. Zisťujeme ich podľa valčekov Kopeckého. Najväčšie množstvo vzduchu v pôde sa nazýva </a:t>
            </a:r>
            <a:r>
              <a:rPr b="1" i="1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maximálna vzdušná kapacita</a:t>
            </a:r>
            <a:r>
              <a:rPr b="0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 alebo maximálna vzdušnosť. Prakticky sa rovná pórovitosti a dosiahnuť ju je možné len v laboratóriu (ide o absolútne suchú zeminu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 txBox="1"/>
          <p:nvPr/>
        </p:nvSpPr>
        <p:spPr>
          <a:xfrm>
            <a:off x="1402920" y="33120"/>
            <a:ext cx="7705800" cy="64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3.1 Prevzdušnenosť pôdy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Predstavuje objem vzduchu v pôde s momentálnou vlhkosťou. Je to veľmi premenlivá hodnota, pretože je určovaná objemom pórov, ktoré nie sú zaplnené vodou. Vypočítame ju tak, keď od celkovej pórovitosti (P) odčítame momentálnu vlhkosť v objemových % (θ). Prevzdušnenosť pôdy sa môže vyskytovať od nuly v plne nasýtených pôdach až po hodnotu pórovitosti v suchých pôdach. Za optimálny stav prevzdušnenosti sa považuje taký, keď 40% pórov ( nekapilárnych) je zaplnených vzduchom a 60% pórov (kapilárnych ) vodou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3.2 Vzdušná kapacita pôdy 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Ide o obsah vzduchu v pôde pri rôznych vodných kapacitách, t. j. pri poľnej vodnej kapacite (θ PK) maximálnej kapilárnej (θ KMK) a retenčnej (θ RK) vodnej kapacite. Vzdušná kapacita je hodnota menlivá zvlášť v orničnej časti pôdneho profilu podľa stavu utlačenia a zmeny pórovitosti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 txBox="1"/>
          <p:nvPr/>
        </p:nvSpPr>
        <p:spPr>
          <a:xfrm>
            <a:off x="1618920" y="-360"/>
            <a:ext cx="65926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4. Vzdušný režim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Charakterizuje súbor činiteľov, pôsobiacich na intenzívnosť výmeny vzduchu medzi pôdou a atmosférou za určitý časový úsek.Odlišnosť v dynamike vzdušných režimov sa vyjadruje ich typom.Podľa Bedrnu rozlišujeme nasledovné typy vzdušného režimu pôdy :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Nepriedušný typ </a:t>
            </a:r>
            <a:r>
              <a:rPr b="0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sa vyskytuje v pôdach s minimálnou,vnútropôdnou i mimopôdnou cirkuláciou pôdneho vzduchu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Tlmený typ</a:t>
            </a:r>
            <a:r>
              <a:rPr b="0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 je typický pre pôdy , v ktorých je výmena vzduchu medzi pôdou a atmosférou v priebehu roka málovýrazná a uskutočňuje sa iba v období niekoľkých mesiacov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Sezónne tlmený typ</a:t>
            </a:r>
            <a:r>
              <a:rPr b="0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 je charakteristický pre oblasti s niekoľkomesačnou zimou so snehom.Počas vegetačného obdobia je cirkulácia vzduchu medzi pôdou a atmosférou dosťintenzívna, ale počas vegetačného kľudu sa celkom zastavuje v dôsledku toho,že pôdu pokrýva súvislá vrstva snehu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Krátkodobesezónny tlmený typ</a:t>
            </a:r>
            <a:r>
              <a:rPr b="0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 majú tie pôdy, v ktorých je normálne prúdenie vzduchu medzi pôdou  a amtosférou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Priedušný typ</a:t>
            </a:r>
            <a:r>
              <a:rPr b="0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 sa vyskytuje v podmienkach trvalej a intenzívnej aerácie pôdnej hmoty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 txBox="1"/>
          <p:nvPr/>
        </p:nvSpPr>
        <p:spPr>
          <a:xfrm>
            <a:off x="1547640" y="404280"/>
            <a:ext cx="67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400" spc="-1" strike="noStrike">
                <a:solidFill>
                  <a:srgbClr val="404040"/>
                </a:solidFill>
                <a:latin typeface="Century Gothic"/>
              </a:rPr>
              <a:t>5. Humus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Organická hmota v pôde je základnou súčasťou pôdy, ktorá má nezastupiteľnú funkciu v pôdotvornom procese a pri formovaní pôdnej úrodnosti. Pod pojmom organická hmota pôdy rozumieme súbor všetkých odumretých zvyškov, ktoré sa môžu nachádzať v rozličnom stupni premeny, to znamená, že pod týmto názvom sa označujú odumreté telá rastlín a živočíchov aj so zachovanou pôvodnou anatomickou štruktúrou a humus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Humus predstavuje zložitý, dynamický komplex organických zlúčenín tvoriacich sa pri rozklade a humifkácii organických látok v pôde. Súčasný pohľad na pôdny humus je výsledkom prehodnotenia veľkého množstva teoretických i praktických poznatkov. S pôdnym humusom sú späté mnohé fyzikálne, fyzikálno- chemické, chemické i biologické vlastnosti pôd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22:27:03Z</dcterms:created>
  <dc:creator>Nina</dc:creator>
  <dc:description/>
  <dc:language>en-US</dc:language>
  <cp:lastModifiedBy>PC</cp:lastModifiedBy>
  <dcterms:modified xsi:type="dcterms:W3CDTF">2023-02-28T11:14:58Z</dcterms:modified>
  <cp:revision>19</cp:revision>
  <dc:subject/>
  <dc:title>Univerzita P.J. Šafárika, Prírodovedecká fakulta v Košiciach  Ústav geografie</dc:title>
</cp:coreProperties>
</file>